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A13-3679-4154-837A-FB4563D4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C5F-A331-4D21-ADAC-9A023E1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CF8-B435-46B3-919D-825A6891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F20-A4FE-408D-A7B5-B7AB0EF8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1E8-6230-483F-BDA8-841E9019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8E5-6783-4C07-866F-6C4D728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A52-8EE9-4102-915B-469996B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C4B-63F8-445A-806F-AE8EBCD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587-490D-4A06-AEA8-6D7850B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CCE-3936-438A-A7F6-B978D19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3AE-9EFD-4BB1-A5C1-FFEA33C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FF8-65CC-47F0-AFA9-CD92B29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F51-2F97-4CE5-ABD4-2B6C9487E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916280"/>
            <a:ext cx="7129440" cy="37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gnorar y saber están en fronteras tan cercanas, que uno nunca sabe de que lado est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rmenegildo Tor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aaf4fc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0000"/>
                </a:solidFill>
                <a:latin typeface="Arial"/>
              </a:rPr>
              <a:t>Capital intelectu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2060640"/>
            <a:ext cx="7201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Conjunto de activos intangibles que se originan en los conocimientos, habilidades, valores, actitudes e ideas de las personas que forman parte de una organiz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aaf4fc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apital intelectual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valor de las organiz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852640"/>
            <a:ext cx="1729080" cy="79236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lor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653000"/>
            <a:ext cx="172908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lo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852640"/>
            <a:ext cx="1726920" cy="79236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2852640"/>
            <a:ext cx="1655640" cy="79236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lo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4653000"/>
            <a:ext cx="172872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4653000"/>
            <a:ext cx="165564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In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4005360"/>
            <a:ext cx="60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onentes del valor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220500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5651640" y="2923200"/>
            <a:ext cx="57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5724360" y="4796280"/>
            <a:ext cx="4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10800000">
            <a:off x="3203280" y="2923200"/>
            <a:ext cx="36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 rot="10800000">
            <a:off x="3203280" y="4724280"/>
            <a:ext cx="36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fc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tegorías del capital intele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916280"/>
            <a:ext cx="80629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tivos de mercado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tencial derivado de los bienes inmateriales que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uardan relación con el mercad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tivos de propiedad intelectual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ocimientos sobre procesos, patentes, marc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tivos centrados en el individuo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pacidades y habilidades de los miembros de la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ganización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tivos de infraestructura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cnologías, procesos y metod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fc"/>
            </a:gs>
            <a:gs pos="50000">
              <a:srgbClr val="0099cc"/>
            </a:gs>
            <a:gs pos="100000">
              <a:srgbClr val="aaf4f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mponentes del capital intel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2349360"/>
            <a:ext cx="1655640" cy="79236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lo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3645000"/>
            <a:ext cx="165744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645000"/>
            <a:ext cx="158436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Intele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4360" y="5013360"/>
            <a:ext cx="151128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Re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5013360"/>
            <a:ext cx="158436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struc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013360"/>
            <a:ext cx="1439640" cy="792000"/>
          </a:xfrm>
          <a:prstGeom prst="rect">
            <a:avLst/>
          </a:prstGeom>
          <a:solidFill>
            <a:srgbClr val="a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472428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3357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fc"/>
            </a:gs>
            <a:gs pos="50000">
              <a:srgbClr val="0099cc"/>
            </a:gs>
            <a:gs pos="100000">
              <a:srgbClr val="aaf4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mponentes del capital intel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557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Capital humano: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Conocimiento (explícito o tácito) que poseen los integrantes de la organización, así como su capacidad para regenerarlo, es decir, aprender</a:t>
            </a:r>
            <a:br>
              <a:rPr sz="2600"/>
            </a:b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Capital estructural: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onocimiento que la organización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onsigue explicitar, sistematizar e internalizar</a:t>
            </a:r>
            <a:br>
              <a:rPr sz="2600"/>
            </a:br>
            <a:br>
              <a:rPr sz="24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Capital relacional: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alor que para la organización tiene las relaciones y el conocimiento proveniente del exteri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dffda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ferencia entre dato, información y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989000"/>
            <a:ext cx="77724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ato</a:t>
            </a: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junto discreto de factores objetivos sobre un hecho real como símbolos caracteres, etc.</a:t>
            </a: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tos que en conjunto tienen significado</a:t>
            </a: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formación que permite crear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a9"/>
            </a:gs>
            <a:gs pos="50000">
              <a:srgbClr val="ff9966"/>
            </a:gs>
            <a:gs pos="100000">
              <a:srgbClr val="dffd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je del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95640" y="1988640"/>
            <a:ext cx="0" cy="374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628640"/>
            <a:ext cx="32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dependencia context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877000"/>
            <a:ext cx="28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229360"/>
            <a:ext cx="2016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t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5013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221000"/>
            <a:ext cx="1726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284640"/>
            <a:ext cx="208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bidu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08720" y="2492280"/>
            <a:ext cx="187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4581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3716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35640" y="292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adena informacional desde la perspectiva del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133720"/>
            <a:ext cx="2016000" cy="1079280"/>
          </a:xfrm>
          <a:custGeom>
            <a:avLst/>
            <a:gdLst>
              <a:gd name="textAreaLeft" fmla="*/ 315000 w 2016000"/>
              <a:gd name="textAreaRight" fmla="*/ 1724760 w 2016000"/>
              <a:gd name="textAreaTop" fmla="*/ 270360 h 1079280"/>
              <a:gd name="textAreaBottom" fmla="*/ 808920 h 107928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ahom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800">
            <a:off x="4785840" y="2058840"/>
            <a:ext cx="1868760" cy="1152720"/>
          </a:xfrm>
          <a:custGeom>
            <a:avLst/>
            <a:gdLst>
              <a:gd name="textAreaLeft" fmla="*/ 291960 w 1868760"/>
              <a:gd name="textAreaRight" fmla="*/ 1598760 w 1868760"/>
              <a:gd name="textAreaTop" fmla="*/ 288720 h 1152720"/>
              <a:gd name="textAreaBottom" fmla="*/ 86400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Tahoma"/>
              </a:rPr>
              <a:t>Inform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2133720"/>
            <a:ext cx="187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grup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lasific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ormate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2060640"/>
            <a:ext cx="230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par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alid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716280"/>
            <a:ext cx="2016360" cy="1152720"/>
          </a:xfrm>
          <a:custGeom>
            <a:avLst/>
            <a:gdLst>
              <a:gd name="textAreaLeft" fmla="*/ 315000 w 2016360"/>
              <a:gd name="textAreaRight" fmla="*/ 1725120 w 2016360"/>
              <a:gd name="textAreaTop" fmla="*/ 288720 h 1152720"/>
              <a:gd name="textAreaBottom" fmla="*/ 86400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Tahoma"/>
              </a:rPr>
              <a:t>Conoc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Tahoma"/>
              </a:rPr>
              <a:t>informa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3573360"/>
            <a:ext cx="158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pciones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entaja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3800">
            <a:off x="4786200" y="3638160"/>
            <a:ext cx="1946520" cy="1222560"/>
          </a:xfrm>
          <a:custGeom>
            <a:avLst/>
            <a:gdLst>
              <a:gd name="textAreaLeft" fmla="*/ 304200 w 1946520"/>
              <a:gd name="textAreaRight" fmla="*/ 1665360 w 1946520"/>
              <a:gd name="textAreaTop" fmla="*/ 306000 h 1222560"/>
              <a:gd name="textAreaBottom" fmla="*/ 916560 h 122256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Tahoma"/>
              </a:rPr>
              <a:t>Conoc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Tahoma"/>
              </a:rPr>
              <a:t>produc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716280"/>
            <a:ext cx="19429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egociació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3800">
            <a:off x="3058920" y="5084640"/>
            <a:ext cx="2519280" cy="1154160"/>
          </a:xfrm>
          <a:custGeom>
            <a:avLst/>
            <a:gdLst>
              <a:gd name="textAreaLeft" fmla="*/ 393480 w 2519280"/>
              <a:gd name="textAreaRight" fmla="*/ 2155320 w 2519280"/>
              <a:gd name="textAreaTop" fmla="*/ 289080 h 1154160"/>
              <a:gd name="textAreaBottom" fmla="*/ 865080 h 115416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eab346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ahoma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627280" y="1412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5229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626920" y="5950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5950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2276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116000" y="22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428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OCIMIENTO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Á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5661000"/>
            <a:ext cx="23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IVEL DE ALCANCE DEL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00280"/>
            <a:ext cx="21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OCIMIENTO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XPLÍ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981000"/>
            <a:ext cx="35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IMENSIÓN EPISTEM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4869000"/>
            <a:ext cx="165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IMENSIÓN ONT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33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MENSIÓN DE LA CREA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ocimiento tácito</a:t>
            </a:r>
            <a:br>
              <a:rPr sz="3600"/>
            </a:b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conocimiento implícito en cada persona. No está codificado y es difícil de difundir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vital para las organizaciones porque solo pueden aprender  e  innovar sustentadas en el conocimiento implícito de sus miembros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40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964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STIÓN DEL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5805360"/>
            <a:ext cx="7129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NRIQUE BENJAMÍN FRANKLIN F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ocimiento explícito</a:t>
            </a:r>
            <a:br>
              <a:rPr sz="3600"/>
            </a:b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 el   conocimiento  que   se   puede  expresar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ormalmente porque está codificado y se difunde con facilidad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basa en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objeto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uando está codificado co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bras, números, equipos, modelos, etc.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basa en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regla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uandose codifica en rutinas o proced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mplificación del conocimiento</a:t>
            </a:r>
            <a:br>
              <a:rPr sz="3200"/>
            </a:b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ión  de  convertir  el  conocimiento  tácito en conocimiento explícito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levar  el conocimiento desde el  nivel individual hasta los niveles de equip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000000"/>
                </a:solidFill>
                <a:latin typeface="Arial"/>
              </a:rPr>
              <a:t>Dimensión epistemológica del conocimien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916280"/>
            <a:ext cx="882000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Para lograr que la información se convierta en conocimiento las personas deben crear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Atendiendo a ese propósito, es necesario definir los procesos que  permitan sistematizar la creación del conocimi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941720"/>
            <a:ext cx="86043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33cc"/>
                </a:solidFill>
                <a:latin typeface="Arial"/>
              </a:rPr>
              <a:t>Epistemología: Doctrina de los fundamentos y métodos del conoc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mensión ontológica del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349360"/>
            <a:ext cx="8496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mensión que considera el alcance de la creación del conocimiento tomando en cuenta su entorn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conocimiento es creado por individuos  y  cristalizado como parte de la red de conocimiento de la organiza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373720"/>
            <a:ext cx="87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33cc"/>
                </a:solidFill>
                <a:latin typeface="Arial"/>
              </a:rPr>
              <a:t>Ontología: parte de la metafísica que trata del ser y de sus partes fundamen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ocimiento cultural</a:t>
            </a:r>
            <a:br>
              <a:rPr sz="3600"/>
            </a:br>
            <a:br>
              <a:rPr sz="32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iste en las estructuras cognoscitivas  y  afectivas que normalmente utilizan los miembros de un grupo u organización para percibir, explicar, evaluar y construir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dad</a:t>
            </a:r>
            <a:br>
              <a:rPr sz="28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arámetros para identificar 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924280"/>
            <a:ext cx="2374920" cy="100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Codifi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3933720"/>
            <a:ext cx="237492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No codifi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2924280"/>
            <a:ext cx="2232000" cy="100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gis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2924280"/>
            <a:ext cx="2305080" cy="100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933720"/>
            <a:ext cx="2232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o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3933720"/>
            <a:ext cx="230508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ocimiento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2015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onversión del conocimiento</a:t>
            </a:r>
            <a:br>
              <a:rPr sz="4000"/>
            </a:br>
            <a:br>
              <a:rPr sz="24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ransformar el conocimiento en productos y servicios útiles, es una destreza decisiva para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supervivencia de un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6543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0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Alternativas de conversión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72428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OCIMIENTO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TÁ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492280"/>
            <a:ext cx="2664000" cy="1441440"/>
          </a:xfrm>
          <a:prstGeom prst="rect">
            <a:avLst/>
          </a:prstGeom>
          <a:solidFill>
            <a:srgbClr val="dff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nocimiento acord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492280"/>
            <a:ext cx="2592360" cy="1441440"/>
          </a:xfrm>
          <a:prstGeom prst="rect">
            <a:avLst/>
          </a:prstGeom>
          <a:solidFill>
            <a:srgbClr val="dff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xteri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nocimient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933720"/>
            <a:ext cx="2664000" cy="1366920"/>
          </a:xfrm>
          <a:prstGeom prst="rect">
            <a:avLst/>
          </a:prstGeom>
          <a:solidFill>
            <a:srgbClr val="dff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teri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ahoma"/>
              </a:rPr>
              <a:t>Conocimiento operacional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933720"/>
            <a:ext cx="2592360" cy="1366920"/>
          </a:xfrm>
          <a:prstGeom prst="rect">
            <a:avLst/>
          </a:prstGeom>
          <a:solidFill>
            <a:srgbClr val="dff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nocimiento sisté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3320" y="2492280"/>
            <a:ext cx="21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OCIMIENTO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XPLÍ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16000" y="30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5c3d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99"/>
                </a:solidFill>
                <a:latin typeface="Arial"/>
              </a:rPr>
              <a:t>Socialización</a:t>
            </a:r>
            <a:br>
              <a:rPr sz="2800"/>
            </a:b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Proceso de adquirir conocimiento tácito a través de compartir experiencias</a:t>
            </a:r>
            <a:br>
              <a:rPr sz="2600"/>
            </a:br>
            <a:br>
              <a:rPr sz="2800"/>
            </a:br>
            <a:r>
              <a:rPr b="1" lang="es-MX" sz="2800" spc="-1" strike="noStrike">
                <a:solidFill>
                  <a:srgbClr val="ffcc99"/>
                </a:solidFill>
                <a:latin typeface="Arial"/>
              </a:rPr>
              <a:t>Exteriorización</a:t>
            </a:r>
            <a:br>
              <a:rPr sz="2800"/>
            </a:b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Proceso de convertir el conocimiento tácito en conceptos explícitos</a:t>
            </a:r>
            <a:br>
              <a:rPr sz="2600"/>
            </a:br>
            <a:br>
              <a:rPr sz="2800"/>
            </a:br>
            <a:r>
              <a:rPr b="1" lang="es-MX" sz="2800" spc="-1" strike="noStrike">
                <a:solidFill>
                  <a:srgbClr val="ffcc99"/>
                </a:solidFill>
                <a:latin typeface="Arial"/>
              </a:rPr>
              <a:t>Interiorización</a:t>
            </a:r>
            <a:br>
              <a:rPr sz="2800"/>
            </a:b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Proceso de incorporar conocimiento explícito al tácito</a:t>
            </a:r>
            <a:br>
              <a:rPr sz="2600"/>
            </a:br>
            <a:br>
              <a:rPr sz="2800"/>
            </a:br>
            <a:r>
              <a:rPr b="1" lang="es-MX" sz="2800" spc="-1" strike="noStrike">
                <a:solidFill>
                  <a:srgbClr val="ffcc99"/>
                </a:solidFill>
                <a:latin typeface="Arial"/>
              </a:rPr>
              <a:t>Combinación</a:t>
            </a:r>
            <a:br>
              <a:rPr sz="2800"/>
            </a:b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Proceso de  crear conocimiento explícito proveniente de distintas fu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295"/>
            </a:gs>
            <a:gs pos="100000">
              <a:srgbClr val="f2ac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roceso de creación del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133720"/>
            <a:ext cx="828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Generativos              Crean nuevo conocimiento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Productivos        Generan conocimiento acumulado </a:t>
            </a:r>
            <a:br>
              <a:rPr sz="2600"/>
            </a:b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Representativos            Transmiten conocimiento   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                                       manifies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781360"/>
            <a:ext cx="1224000" cy="0"/>
          </a:xfrm>
          <a:prstGeom prst="line">
            <a:avLst/>
          </a:prstGeom>
          <a:ln cap="rnd" w="31680">
            <a:solidFill>
              <a:srgbClr val="ffff99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3573360"/>
            <a:ext cx="647640" cy="0"/>
          </a:xfrm>
          <a:prstGeom prst="line">
            <a:avLst/>
          </a:prstGeom>
          <a:ln cap="rnd" w="31680">
            <a:solidFill>
              <a:srgbClr val="ffff99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65720"/>
            <a:ext cx="934920" cy="0"/>
          </a:xfrm>
          <a:prstGeom prst="line">
            <a:avLst/>
          </a:prstGeom>
          <a:ln cap="rnd" w="31680">
            <a:solidFill>
              <a:srgbClr val="ffff99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200" y="549360"/>
            <a:ext cx="88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onten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773360"/>
            <a:ext cx="80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pectivas filosófica y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tecedentes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ital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ferencia entre dato, información y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mensión de la crea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vers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ceso de crea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ceso de gest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 de la gest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ace1"/>
            </a:gs>
            <a:gs pos="100000">
              <a:srgbClr val="a072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Arial"/>
              </a:rPr>
              <a:t>Fases del proceso de creación del conoc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773360"/>
            <a:ext cx="80629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mpartir el conocimiento tácito</a:t>
            </a:r>
            <a:br>
              <a:rPr sz="22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Individuos de diferentes áreas comparten habilidades y experiencias y se organizan para desarrollar conjuntamente modelos mentales tácitos</a:t>
            </a:r>
            <a:br>
              <a:rPr sz="18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rear conceptos</a:t>
            </a:r>
            <a:br>
              <a:rPr sz="22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diálogo en el equipo se intensifica en la medida que sus miembros reflexionan sobre el modelo mental tácito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Justificar conceptos</a:t>
            </a:r>
            <a:br>
              <a:rPr sz="22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evalúan conceptos para determinar si están en armonía con la intención de la organización</a:t>
            </a:r>
            <a:br>
              <a:rPr sz="18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nstruir un arquetipo</a:t>
            </a:r>
            <a:br>
              <a:rPr sz="22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concepto justificado se convierte en algo tangible como un arquetipo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Nivelar transversalmente el conocimiento</a:t>
            </a:r>
            <a:br>
              <a:rPr sz="2200"/>
            </a:b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os conceptos creados, justificados y modelados se emplean para activar nuevos ciclos de creación de conocimiento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b4b"/>
            </a:gs>
            <a:gs pos="100000">
              <a:srgbClr val="f4f2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1484280"/>
            <a:ext cx="4103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dentifica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nálisis y descripción del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orno del conocimiento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organización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dquisi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ocimiento que la organiza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tiene de fuentes internas y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xterna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arrollo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ducción consciente de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acidades que aún no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xisten en la organizació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 rot="13543200">
            <a:off x="1205280" y="2399760"/>
            <a:ext cx="998280" cy="104616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700280"/>
            <a:ext cx="3529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parti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misión del conocimiento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hacia áreas clave para que 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roduzca valor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Utiliza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plicación del conocimiento de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era productiva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tención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rear procesos para conservar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conocimiento en forma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xplíc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199400">
            <a:off x="5154480" y="2444400"/>
            <a:ext cx="1076400" cy="90504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13543200">
            <a:off x="1266120" y="4284360"/>
            <a:ext cx="976320" cy="99252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Proceso de gestión del conocimiento</a:t>
            </a: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9199400">
            <a:off x="5217840" y="4138200"/>
            <a:ext cx="1041480" cy="87300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294"/>
            </a:gs>
            <a:gs pos="100000">
              <a:srgbClr val="7c7b4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ignificado de los proyectos de gestión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637000"/>
            <a:ext cx="8353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la unidad  básica de acciones que una organización emplea para generar valor de los activos de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294"/>
            </a:gs>
            <a:gs pos="100000">
              <a:srgbClr val="7c7b4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yectos de gestión del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6064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turar y reutilizar conocimiento estructurado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Capturar y compartir lecciones aprendidas en la práctic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Identificar fuentes y redes de experienci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Estructurar y mapear las necesidades de conocimient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Medir y manejar el valor económico del conocimient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Sintetizar y compartir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48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Beneficios de la gestión del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844640"/>
            <a:ext cx="8820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provecha de manera óptima el capital intelectual de la organización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menta y facilita la creación de una memoria corporativ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presenta  un  marco  de  referencia  para ampliar la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ansferencia de conocimiento y elevar el desempeñ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bilita el ciclo de mejora continu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sibilita el alineamiento de estrategias clave con los procesos de la orga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492280"/>
            <a:ext cx="800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El futuro existe primero en la</a:t>
            </a:r>
            <a:r>
              <a:rPr b="1" i="1" lang="es-MX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imaginación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después en la voluntad, luego en la realidad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es-MX" sz="3000" spc="-1" strike="noStrike">
                <a:solidFill>
                  <a:srgbClr val="000000"/>
                </a:solidFill>
                <a:latin typeface="Arial"/>
              </a:rPr>
              <a:t>J. Galbrai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2000" y="2997360"/>
            <a:ext cx="64818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MX" sz="3000" spc="-1" strike="noStrike">
                <a:solidFill>
                  <a:srgbClr val="996633"/>
                </a:solidFill>
                <a:latin typeface="Arial"/>
              </a:rPr>
              <a:t>Página de Internet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http://www.mhhe/negocios/franklin2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996633"/>
                </a:solidFill>
                <a:latin typeface="Arial"/>
              </a:rPr>
              <a:t>                             </a:t>
            </a:r>
            <a:r>
              <a:rPr b="1" lang="es-MX" sz="2600" spc="-1" strike="noStrike">
                <a:solidFill>
                  <a:srgbClr val="996633"/>
                </a:solidFill>
                <a:latin typeface="Arial"/>
              </a:rPr>
              <a:t>e-m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benjamin_franklin@oficinadecorreo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efranklin@prodigy.net.m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124080" y="404640"/>
          <a:ext cx="2895840" cy="22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4640"/>
                    <a:ext cx="289584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993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200" y="1484280"/>
            <a:ext cx="88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Gestión del conoc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89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Proceso sistemático de encontrar, seleccionar, organizar, disponer, presentar    y  compartir información para transformarla en cono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993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200" y="765000"/>
            <a:ext cx="88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erspectiva filosófica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205000"/>
            <a:ext cx="8893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Conocimiento es el conjunto de creencias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justificadas por la verdad (Plat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Pienso, luego existo (Descart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Distinción entre la génesis del conocimiento y su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validez (Ka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b5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1200" y="765000"/>
            <a:ext cx="88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erspectiva actual del 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916280"/>
            <a:ext cx="74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3372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Conjunto  de cogniciones   y  habilidades  con  l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cuales los individuos pueden solucionar problem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Creencias cognitivas experimentadas, confirmad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y contextuad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653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Arial"/>
              </a:rPr>
              <a:t>Estas creencias son susceptibles de potenciarse y sistematizarse para generar val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ANTECEDENTES SIGNIFICATIVOS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20500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oría de recursos y capa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ecursora  de la gestión del conocimiento, esta teoría  explica  cómo la posesión de recursos  y  capacidades de una organización se traducen en ventajas competitiv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ffcccc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7000"/>
            <a:ext cx="8893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oría de recursos y capacidade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conceptos funda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Recurso en sentido amplio: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medio que sirve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alcanzar un objetivo establecid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Recurso en sentido estricto: </a:t>
            </a: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activos dispon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Capacidad:  </a:t>
            </a: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facultad de gestionar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96ab94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404640"/>
            <a:ext cx="8893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lasificación de los recur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Recursos tangibles:  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físicos   y  financieros, los cuales son fácilmente identificables y catalog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Recursos intangibles: 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material intelectual, conocimiento, información, experiencia y fuerza cerebral colec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163040" y="3969360"/>
            <a:ext cx="792360" cy="1006560"/>
          </a:xfrm>
          <a:custGeom>
            <a:avLst/>
            <a:gdLst>
              <a:gd name="textAreaLeft" fmla="*/ 123840 w 792360"/>
              <a:gd name="textAreaRight" fmla="*/ 677880 w 792360"/>
              <a:gd name="textAreaTop" fmla="*/ 252000 h 1006560"/>
              <a:gd name="textAreaBottom" fmla="*/ 754560 h 100656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gradFill rotWithShape="0">
            <a:gsLst>
              <a:gs pos="0">
                <a:srgbClr val="9191db"/>
              </a:gs>
              <a:gs pos="100000">
                <a:srgbClr val="6c8dd8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Recursos estratégicos: conjunto de capacidades difíciles de intercambiar, imitar o sustituir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07:12Z</dcterms:created>
  <dc:creator>Enrique Benjamín Franklin F.</dc:creator>
  <dc:description/>
  <dc:language>en-US</dc:language>
  <cp:lastModifiedBy>Enrique</cp:lastModifiedBy>
  <dcterms:modified xsi:type="dcterms:W3CDTF">2005-06-14T07:00:19Z</dcterms:modified>
  <cp:revision>68</cp:revision>
  <dc:subject/>
  <dc:title>Gestión del conocimiento</dc:title>
</cp:coreProperties>
</file>