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22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23.wmf" ContentType="image/x-wmf"/>
  <Override PartName="/ppt/media/image20.wmf" ContentType="image/x-wmf"/>
  <Override PartName="/ppt/media/image3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ADB-46B8-4E04-8B45-3F81818D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3BC-A2F7-4EF8-8874-64589EE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D21-69AC-4CCB-BF5D-38E74C14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161-BEF6-4E87-89FC-490C72ED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DD8-A222-4ED5-9781-34621A67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333-5236-4D18-B61A-24B93062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73C-08D9-4459-900B-3FE90A30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1BA-64E0-410A-8208-4FA7D5E6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66B-E723-4947-8173-70831868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0B5-7353-462E-BE7C-41B3D8D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C05-EFEB-4638-AB8E-D17A6B4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B1E-906E-4522-8B10-D0FC9C2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9F9840-6116-4A77-99BB-E7827A6DE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91760"/>
            <a:ext cx="722628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novación del valor es un concepto de estrategia distinto tanto de la creación del valor como de la innovación tecnológic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W. Chan K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434960" y="1974960"/>
            <a:ext cx="6095880" cy="2882520"/>
            <a:chOff x="1434960" y="1974960"/>
            <a:chExt cx="6095880" cy="2882520"/>
          </a:xfrm>
        </p:grpSpPr>
        <p:sp>
          <p:nvSpPr>
            <p:cNvPr id="72" name=""/>
            <p:cNvSpPr/>
            <p:nvPr/>
          </p:nvSpPr>
          <p:spPr>
            <a:xfrm>
              <a:off x="1434960" y="1974960"/>
              <a:ext cx="6095880" cy="28825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8560" y="2455560"/>
              <a:ext cx="5529960" cy="204264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Verdana"/>
                </a:rPr>
                <a:t>Tamaño de la empr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400" spc="-1" strike="noStrike">
                  <a:solidFill>
                    <a:srgbClr val="000000"/>
                  </a:solidFill>
                  <a:latin typeface="Verdana"/>
                </a:rPr>
                <a:t>Tipo de indust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Verdana"/>
                </a:rPr>
                <a:t>Naturaleza de sus opera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400" spc="-1" strike="noStrike">
                  <a:solidFill>
                    <a:srgbClr val="000000"/>
                  </a:solidFill>
                  <a:latin typeface="Verdana"/>
                </a:rPr>
                <a:t>Enfoque estratég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2806560" y="749160"/>
            <a:ext cx="3276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Stencil"/>
              </a:rPr>
              <a:t>SECTOR PRIVADO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Stencil"/>
              <a:ea typeface="Stencil"/>
            </a:endParaRPr>
          </a:p>
        </p:txBody>
      </p:sp>
    </p:spTree>
  </p:cSld>
  <p:transition spd="med"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80060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480060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28800" y="457200"/>
            <a:ext cx="5791320" cy="61333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Verdana"/>
              </a:rPr>
              <a:t>Tipo de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Telecomunicaciones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nformátic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aquil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strucción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esc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etro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Transportes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rte Gráfic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ectrónic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limentos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Bebidas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Químic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gí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Turism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utomotriz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utopar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Forestal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iderurgi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rvicios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      C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nematografí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itorial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Textil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Farmacéutic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B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ublicidad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grícola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merci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o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gu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00200" y="1295280"/>
            <a:ext cx="6324480" cy="3842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Naturaleza de sus 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acionales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mpresas cuyo centro de actividades se encuentra en el propio país y la mayoría o totalidad de sus acciones están en manos de 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tranjeras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mpresas que operan en el país, pero la mayoría o totalidad de sus acciones pertenecen a personas de otro(s) país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xtas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mpresas que se desempeñan con la participación conjunta de nacionales y extranj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79640" y="620640"/>
            <a:ext cx="5040360" cy="5347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Enfoque estratégic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Selección estraté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trategia internacional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trategia multinaciona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trategia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Estrategia tras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odo d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Exportación  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Licencia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ranquici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Alianza estratég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Subsidiaria pr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F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Adquis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Subcontratación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Estrategia a nivel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Liderazgo en co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Difer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Concent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Diver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Integración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Integración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43280" y="549360"/>
            <a:ext cx="33526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Stencil"/>
              </a:rPr>
              <a:t>SECTOR SOCIAL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Stencil"/>
              <a:ea typeface="Stenci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628640"/>
            <a:ext cx="4249800" cy="4048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Tipo de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Agrup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Asambl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Asoci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Coleg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Coopera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Empresas de solida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Fon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Fund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Organismos de asistencia e integr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Organizaciones comunit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Procuradur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Planes emerg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Programas permanentes, especiales y emerg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Redes de ref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Sistemas de apo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Socie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Voluntariado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628640"/>
            <a:ext cx="4105080" cy="35622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r 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Alimentación y nutr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Aten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Apoyo a marginados y discapaci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Derech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D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Desarrollo urbano y viv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Ec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Empl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Política en materia obrera, campesina y pop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Protección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Recre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Arial"/>
              </a:rPr>
              <a:t>-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"/>
              </a:rPr>
              <a:t>Salud y seguridad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620640"/>
            <a:ext cx="5759640" cy="504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Perfil del au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1484280"/>
            <a:ext cx="5759640" cy="4887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estión del conocimi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strezas y capac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ódigo de ét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iterios para la toma de decisiones étic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cánica para la toma de decisiones étic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sponsabilidad so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sempeño social corporativ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ructura de pensami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sponsabilidad de su ejercic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 auditor in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 auditor ex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quipo combin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ganización del equipo de audito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unciones genera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iterios alternativos para la integración del equipo audi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ratación del servici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740560" y="4978440"/>
            <a:ext cx="2692080" cy="1320840"/>
            <a:chOff x="5740560" y="4978440"/>
            <a:chExt cx="2692080" cy="1320840"/>
          </a:xfrm>
        </p:grpSpPr>
        <p:sp>
          <p:nvSpPr>
            <p:cNvPr id="87" name=""/>
            <p:cNvSpPr/>
            <p:nvPr/>
          </p:nvSpPr>
          <p:spPr>
            <a:xfrm>
              <a:off x="5740560" y="4978440"/>
              <a:ext cx="2692080" cy="132084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66dfc1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99920" y="5396040"/>
              <a:ext cx="2000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guimi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85800" y="1447920"/>
            <a:ext cx="5003640" cy="1320840"/>
            <a:chOff x="685800" y="1447920"/>
            <a:chExt cx="5003640" cy="1320840"/>
          </a:xfrm>
        </p:grpSpPr>
        <p:grpSp>
          <p:nvGrpSpPr>
            <p:cNvPr id="90" name=""/>
            <p:cNvGrpSpPr/>
            <p:nvPr/>
          </p:nvGrpSpPr>
          <p:grpSpPr>
            <a:xfrm>
              <a:off x="685800" y="1447920"/>
              <a:ext cx="2692080" cy="1320840"/>
              <a:chOff x="685800" y="1447920"/>
              <a:chExt cx="2692080" cy="1320840"/>
            </a:xfrm>
          </p:grpSpPr>
          <p:sp>
            <p:nvSpPr>
              <p:cNvPr id="91" name=""/>
              <p:cNvSpPr/>
              <p:nvPr/>
            </p:nvSpPr>
            <p:spPr>
              <a:xfrm>
                <a:off x="685800" y="1447920"/>
                <a:ext cx="2692080" cy="132084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7ee4cb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68640" y="1865520"/>
                <a:ext cx="1750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Planeació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555720" y="210852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9960" y="1447920"/>
            <a:ext cx="2608920" cy="2412720"/>
            <a:chOff x="5799960" y="1447920"/>
            <a:chExt cx="2608920" cy="2412720"/>
          </a:xfrm>
        </p:grpSpPr>
        <p:sp>
          <p:nvSpPr>
            <p:cNvPr id="95" name=""/>
            <p:cNvSpPr/>
            <p:nvPr/>
          </p:nvSpPr>
          <p:spPr>
            <a:xfrm>
              <a:off x="5801400" y="1447920"/>
              <a:ext cx="2607480" cy="1320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66dfc1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799960" y="1940040"/>
              <a:ext cx="2574720" cy="1920600"/>
              <a:chOff x="5799960" y="1940040"/>
              <a:chExt cx="2574720" cy="1920600"/>
            </a:xfrm>
          </p:grpSpPr>
          <p:sp>
            <p:nvSpPr>
              <p:cNvPr id="97" name=""/>
              <p:cNvSpPr/>
              <p:nvPr/>
            </p:nvSpPr>
            <p:spPr>
              <a:xfrm>
                <a:off x="5799960" y="1940040"/>
                <a:ext cx="2574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Instrumentació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6072120" y="2946240"/>
                <a:ext cx="1033200" cy="914400"/>
                <a:chOff x="6072120" y="2946240"/>
                <a:chExt cx="1033200" cy="9144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7105320" y="2946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6072120" y="3860640"/>
                  <a:ext cx="1033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oval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" name=""/>
          <p:cNvGrpSpPr/>
          <p:nvPr/>
        </p:nvGrpSpPr>
        <p:grpSpPr>
          <a:xfrm>
            <a:off x="2057040" y="3149640"/>
            <a:ext cx="3861000" cy="1727280"/>
            <a:chOff x="2057040" y="3149640"/>
            <a:chExt cx="3861000" cy="1727280"/>
          </a:xfrm>
        </p:grpSpPr>
        <p:sp>
          <p:nvSpPr>
            <p:cNvPr id="102" name=""/>
            <p:cNvSpPr/>
            <p:nvPr/>
          </p:nvSpPr>
          <p:spPr>
            <a:xfrm>
              <a:off x="3225960" y="3149640"/>
              <a:ext cx="2692080" cy="132084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66dfc1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04920" y="3581280"/>
              <a:ext cx="1332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a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057040" y="3809880"/>
              <a:ext cx="1066680" cy="1067040"/>
              <a:chOff x="2057040" y="3809880"/>
              <a:chExt cx="1066680" cy="1067040"/>
            </a:xfrm>
          </p:grpSpPr>
          <p:sp>
            <p:nvSpPr>
              <p:cNvPr id="105" name=""/>
              <p:cNvSpPr/>
              <p:nvPr/>
            </p:nvSpPr>
            <p:spPr>
              <a:xfrm flipH="1">
                <a:off x="2057040" y="380988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57400" y="380988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85800" y="5029200"/>
            <a:ext cx="4952880" cy="1320840"/>
            <a:chOff x="685800" y="5029200"/>
            <a:chExt cx="4952880" cy="1320840"/>
          </a:xfrm>
        </p:grpSpPr>
        <p:grpSp>
          <p:nvGrpSpPr>
            <p:cNvPr id="108" name=""/>
            <p:cNvGrpSpPr/>
            <p:nvPr/>
          </p:nvGrpSpPr>
          <p:grpSpPr>
            <a:xfrm>
              <a:off x="685800" y="5029200"/>
              <a:ext cx="2692080" cy="1320840"/>
              <a:chOff x="685800" y="5029200"/>
              <a:chExt cx="2692080" cy="1320840"/>
            </a:xfrm>
          </p:grpSpPr>
          <p:sp>
            <p:nvSpPr>
              <p:cNvPr id="109" name=""/>
              <p:cNvSpPr/>
              <p:nvPr/>
            </p:nvSpPr>
            <p:spPr>
              <a:xfrm>
                <a:off x="685800" y="5029200"/>
                <a:ext cx="2692080" cy="132084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66dfc1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63400" y="5446800"/>
                <a:ext cx="1351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Infor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581280" y="563868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4581360"/>
            <a:ext cx="2089080" cy="1769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RGAN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structura organiz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visión y distribución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un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ultura organiz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cursos huma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mbio organiz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studios administra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strumentos técn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984680"/>
            <a:ext cx="1800360" cy="23313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LANE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Vi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e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strategias / tác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cedimien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nfo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ive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orizo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2229480"/>
            <a:ext cx="2590920" cy="324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quisi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macenes e inv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sesoría exter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sesoría inter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ordin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tribución del espa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ortacion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lobaliz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portacion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formátic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vestigación y desarrol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per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veedor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cursos financieros y conta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 clien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2094120"/>
            <a:ext cx="2520720" cy="18745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RE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deraz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otiv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upos y equipos 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nejo del estrés, el conflicto y l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oma de deci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reatividad e innov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00960" y="4429080"/>
            <a:ext cx="1451160" cy="1569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aturale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ive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Áreas de apl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rrami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1125360"/>
            <a:ext cx="29527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 ESPECÍ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125360"/>
            <a:ext cx="4608360" cy="6480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O ADMINIST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4392360" cy="4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268280"/>
            <a:ext cx="7162920" cy="485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3333ff"/>
                </a:solidFill>
                <a:latin typeface="Verdana"/>
              </a:rPr>
              <a:t>Génesis de la organ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reación de la organ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ambios en la composición juríd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Traducción del objeto en estrategi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Manejo de la delegación de facultad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ff"/>
                </a:solidFill>
                <a:latin typeface="Verdana"/>
              </a:rPr>
              <a:t>Infraestruct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Esquema de operación (procesos/funcion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Estilo de administr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Modificaciones en la estructura organiz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Nivel de desarrollo tecnológ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ff"/>
                </a:solidFill>
                <a:latin typeface="Verdana"/>
              </a:rPr>
              <a:t>Forma de oper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Desempeño regist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Logros alcanzad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Expectativas no cumplid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Proceso de toma de decisio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ff"/>
                </a:solidFill>
                <a:latin typeface="Verdana"/>
              </a:rPr>
              <a:t>Posición competitiv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Naturaleza, dimensión, sector y giro industrial de la organ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etencias centr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lientes, proveedores y competidores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5041800" cy="64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Diagnóstico preli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6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7280" y="765000"/>
            <a:ext cx="6624720" cy="578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Fisonomía de la organización de acuerdo con su situación actual y su trayectoria histó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Mecánica para generar bienes, servicios, capital y cono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Esfera de 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osición en el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iclo de vida de la organ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Información op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Gestión de funciones, procesos y proyect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oordinación de las ac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Administración de la tecnología de la inform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Análisis de la interacción  planeación, organización, dirección y contr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Desemp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Manejo de indicadores de gest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Resultados alcanz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Margen de efectivida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Estrategia compet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ropósito estratég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Enfoque estratég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rocesos estratég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Habilidades distin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Lideraz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ultura organizacio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3006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Trabajo en 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alidad de vida de la organ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Verdana"/>
              </a:rPr>
              <a:t>Perspec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Oportunidades de nego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Administración del camb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otencial de innov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ontrol estratég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5832360" cy="4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Diagnóstico administ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1052640"/>
            <a:ext cx="6912000" cy="5269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Primer nivel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Percepción de la realidad y contexto de actuación, recolección de información : diagnóstico prelimin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Segundo niv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Derivación de conclusiones producto del examen de los resultados obtenidos orientados por los indicadores de gestión alineados con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Tercer 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Detección del juego de variables asociadas con los supuestos detrás de las líneas de acción y de reglas de juego no escri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Cuarto 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Determinación del contexto de interdependencia e interacción que vincula causas y efec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Quinto 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flexión de las tendencias del desempeño y el redireccionamiento propues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Nuevos niveles o entre niveles de análisi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ada vez que se realice una nueva revisión resultados a la luz del cambio como común denomin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568944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Verdana"/>
              </a:rPr>
              <a:t>Análisis multi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19280" y="126828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16360" y="404640"/>
            <a:ext cx="3428640" cy="792000"/>
            <a:chOff x="2916360" y="404640"/>
            <a:chExt cx="3428640" cy="792000"/>
          </a:xfrm>
        </p:grpSpPr>
        <p:sp>
          <p:nvSpPr>
            <p:cNvPr id="128" name=""/>
            <p:cNvSpPr/>
            <p:nvPr/>
          </p:nvSpPr>
          <p:spPr>
            <a:xfrm>
              <a:off x="2916360" y="404640"/>
              <a:ext cx="3428640" cy="7920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4160" y="505800"/>
              <a:ext cx="2419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s-MX" sz="2800" spc="-1" strike="noStrike">
                  <a:solidFill>
                    <a:srgbClr val="000000"/>
                  </a:solidFill>
                  <a:latin typeface="Verdana"/>
                </a:rPr>
                <a:t>Direc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4920" y="2057400"/>
            <a:ext cx="3886200" cy="441972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dicadores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En qué  forma  el  liderazg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constituye una conducta q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guía y  provee  el  sopor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necesario a la organizació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300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300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Cómo el líder ejerce su pode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de influencia en las persona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300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300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Capacidad  que  tiene  para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lograr que  las  acciones s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implementen  de la  mejo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manera posi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2057400"/>
            <a:ext cx="3959280" cy="439596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Zurich Ex BT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dicadores cuant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Verdana"/>
              </a:rPr>
              <a:t>Estilos de liderazgo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Total de estilos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Verdana"/>
              </a:rPr>
              <a:t>Estilos de liderazgo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stilos propuestos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Verdana"/>
              </a:rPr>
              <a:t>Personal que identifica 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Total del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Verdana"/>
              </a:rPr>
              <a:t>Personal que acepta el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Total del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 rot="8098800">
            <a:off x="436320" y="200880"/>
            <a:ext cx="974880" cy="148752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6c8dd8"/>
              </a:gs>
              <a:gs pos="100000">
                <a:srgbClr val="9191db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771640" y="549360"/>
            <a:ext cx="3888720" cy="791640"/>
            <a:chOff x="2771640" y="549360"/>
            <a:chExt cx="3888720" cy="791640"/>
          </a:xfrm>
        </p:grpSpPr>
        <p:sp>
          <p:nvSpPr>
            <p:cNvPr id="134" name=""/>
            <p:cNvSpPr/>
            <p:nvPr/>
          </p:nvSpPr>
          <p:spPr>
            <a:xfrm>
              <a:off x="2771640" y="549360"/>
              <a:ext cx="3751560" cy="7916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08240" y="650520"/>
              <a:ext cx="355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Coordina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50920" y="1773360"/>
            <a:ext cx="4033800" cy="46800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Indicadores cualita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De qué manera la coordinación fomenta l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interacción instituciona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Forma como apoya la reducción del marge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de error en el trabaj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edida en que integra las actividades d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los diferentes ámbi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Grado en que facilita la implementación d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1773360"/>
            <a:ext cx="4248000" cy="46800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Zurich Ex BT"/>
              </a:rPr>
              <a:t>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Zurich Ex BT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Indicadores cuantita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 u="sng">
                <a:solidFill>
                  <a:srgbClr val="000000"/>
                </a:solidFill>
                <a:uFillTx/>
                <a:latin typeface="Verdana"/>
              </a:rPr>
              <a:t>Lineamientos de coordinación formu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Lineamientos requer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 u="sng">
                <a:solidFill>
                  <a:srgbClr val="000000"/>
                </a:solidFill>
                <a:uFillTx/>
                <a:latin typeface="Verdana"/>
              </a:rPr>
              <a:t>Lineamien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Áre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 u="sng">
                <a:solidFill>
                  <a:srgbClr val="000000"/>
                </a:solidFill>
                <a:uFillTx/>
                <a:latin typeface="Verdana"/>
              </a:rPr>
              <a:t>Estudios para mejorar la coord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Estudios requer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 u="sng">
                <a:solidFill>
                  <a:srgbClr val="000000"/>
                </a:solidFill>
                <a:uFillTx/>
                <a:latin typeface="Verdana"/>
              </a:rPr>
              <a:t>Mecanismos de coordinación aprobados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ecanismos de coordinación establec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 u="sng">
                <a:solidFill>
                  <a:srgbClr val="000000"/>
                </a:solidFill>
                <a:uFillTx/>
                <a:latin typeface="Verdana"/>
              </a:rPr>
              <a:t>Mecanismos de coord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Total de áreas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000000"/>
                </a:solidFill>
                <a:uFillTx/>
                <a:latin typeface="Verdana"/>
              </a:rPr>
              <a:t>Mecanismos de coordinación con áreas descentraliz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Total de mec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000000"/>
                </a:solidFill>
                <a:uFillTx/>
                <a:latin typeface="Verdana"/>
              </a:rPr>
              <a:t>Mecanismos de coordinación con áreas desconcent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Total de mec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000000"/>
                </a:solidFill>
                <a:uFillTx/>
                <a:latin typeface="Verdana"/>
              </a:rPr>
              <a:t>Mecanismos de coordinación glob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Total de mec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 u="sng">
                <a:solidFill>
                  <a:srgbClr val="000000"/>
                </a:solidFill>
                <a:uFillTx/>
                <a:latin typeface="Verdana"/>
              </a:rPr>
              <a:t>Personal que participa en los mecanismos de coord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Total de mec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 rot="8098800">
            <a:off x="598320" y="128880"/>
            <a:ext cx="734760" cy="137484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6c8dd8"/>
              </a:gs>
              <a:gs pos="100000">
                <a:srgbClr val="9191db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Verdana"/>
              </a:rPr>
              <a:t>Ele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0" y="4581360"/>
            <a:ext cx="3529080" cy="1829160"/>
          </a:xfrm>
          <a:prstGeom prst="rect">
            <a:avLst/>
          </a:prstGeom>
          <a:solidFill>
            <a:srgbClr val="f9bf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Organización y normativ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Localización de la pla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Distribución de la pla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Manejo de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Factor hum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6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Investigación y desarro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Administración de operaciones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9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Administración de operaciones glob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6280"/>
            <a:ext cx="3672000" cy="3765240"/>
          </a:xfrm>
          <a:prstGeom prst="rect">
            <a:avLst/>
          </a:prstGeom>
          <a:solidFill>
            <a:srgbClr val="42fc7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Recursos human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0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Análisis y valuación de pues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Reclutamiento, selección, contratación, inducción,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soci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Normativ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Remuneración al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apacitación y desarro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6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Higie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Pres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Organización y control de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9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Enfoque glob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0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ompe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Evaluación del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New placement/best placement/e-placement/re-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lac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Inplac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Outplac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Outsourc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6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Divers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Inteligencia emo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9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Val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0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É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1413000"/>
            <a:ext cx="3240360" cy="1829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de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Planeación de las ve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ondiciones de merc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Estudio de merc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ompe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Oportunidades de merc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6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Publicidad y promo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Marketing Interac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omportamiento de los consumi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39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omerci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3645000"/>
            <a:ext cx="3240360" cy="2256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5c3a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Recurs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0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Estructura financiera inter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Fuentes de financi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Instituciones de financi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Ingr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Egr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6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Oblig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Requisitos de financiamient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9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osto y plazo de fon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50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Costo presupues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5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900" spc="-1" strike="noStrike">
                <a:solidFill>
                  <a:srgbClr val="000000"/>
                </a:solidFill>
                <a:latin typeface="Verdana"/>
              </a:rPr>
              <a:t>Financiamiento para la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3527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Cuestionarios: 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áreas func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58920" y="471960"/>
            <a:ext cx="6626160" cy="599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Oper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grama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porte de avance sema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6600"/>
                </a:solidFill>
                <a:latin typeface="Arial"/>
              </a:rPr>
              <a:t>Objetivo:  Organizar el trabajo de manera lógica y con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édula de análisis docu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edula para la detección y registros de hallazgos y evi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édula para el registro de aspectos relev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édula para la captación y tratamiento de causas y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6600"/>
                </a:solidFill>
                <a:latin typeface="Arial"/>
              </a:rPr>
              <a:t>Objetivo: Conocer el funcionamiento de la organ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De evalu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édula para determinar criterios de evalu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édula para evaluar el impacto en la resolución de aspectos crít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riterios de puntuación para la evaluación fin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ceso administ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1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ementos específ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1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ementos específicos y de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13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ceso de diagnóstico y evalu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6600"/>
                </a:solidFill>
                <a:latin typeface="Arial"/>
              </a:rPr>
              <a:t>Objetivo: Cuantificar el comportamiento de variables cl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304920"/>
            <a:ext cx="1941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Verdana"/>
              </a:rPr>
              <a:t>Herramienta operati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40160" y="609480"/>
            <a:ext cx="406224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49360" y="609480"/>
            <a:ext cx="444528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00000" y="1557360"/>
            <a:ext cx="7272360" cy="37782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Objetivo y campo de ap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Normas de ref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érminos y definiciones de la norma ISO 9000: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ntecedentes de las normas de cali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ambios registrados en las normas entre los años de 1994 y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Orientación al servicio: normas ISO 9001:2000  Sistemas d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stión de la calidad: requisitos e ISO 9004:2000 Sistemas de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stión de la calidad: directrices para la mejora del desemp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Norma ISO 9004:2000. Principios de gestión de la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SO 19011:2000  Sistemas de gestión de la calidad y la gest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mbiental: directrices sobre la auditoría de sistemas de gestión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de la calidad y ambientales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érminos y definiciones de la norma ISO 19011: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Directrices para la autoevalu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5041800" cy="649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rmas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981000"/>
            <a:ext cx="77770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Enrique Benjamín Frankli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El gran reto acerca de crear el futuro no es predecirlo.  La meta  es tratar de imaginar un futuro que sea verosímil: el futuro  que  podemos  crear.   Para  ese  efecto, las nuevas herramientas de estrategia  tienen que echar raíces porqu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no se puede crear el futuro utilizando las viejas herramientas de estrategi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Verdana"/>
              </a:rPr>
              <a:t>El esfuerzo que realiza para crear un punto de vista sobre el futuro y una estrategia para manejar el cambio, representa la   capacidad    de  desarrollar  un  sentido  profundo  de discontinuidades para crear una jerarquía de imaginación”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Gary Ha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971640" y="1773360"/>
            <a:ext cx="6933600" cy="4176360"/>
            <a:chOff x="971640" y="1773360"/>
            <a:chExt cx="6933600" cy="4176360"/>
          </a:xfrm>
        </p:grpSpPr>
        <p:sp>
          <p:nvSpPr>
            <p:cNvPr id="152" name=""/>
            <p:cNvSpPr/>
            <p:nvPr/>
          </p:nvSpPr>
          <p:spPr>
            <a:xfrm>
              <a:off x="971640" y="1773360"/>
              <a:ext cx="6933600" cy="41763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75e2c7"/>
                </a:gs>
                <a:gs pos="100000">
                  <a:srgbClr val="00cc99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94120" y="1852560"/>
              <a:ext cx="6582960" cy="37774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996600"/>
                  </a:solidFill>
                  <a:latin typeface="Verdana"/>
                </a:rPr>
                <a:t>Organización ver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Con una sola se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Con unidades desconcentr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Con unidades descentraliz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Con unidades desconcentradas y descentraliz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Con unidades glob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Con unidades desconcentradas, descentralizadas y glob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996600"/>
                  </a:solidFill>
                  <a:latin typeface="Verdana"/>
                </a:rPr>
                <a:t>Organización horizon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Unidades al mismo niv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Equipos de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En red de tecnologí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En red  glo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996600"/>
                  </a:solidFill>
                  <a:latin typeface="Verdana"/>
                </a:rPr>
                <a:t>Organización vertical/horizon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Función/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Estratég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996600"/>
                  </a:solidFill>
                  <a:latin typeface="Verdana"/>
                </a:rPr>
                <a:t>Organización virtu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Unidades en el lugar de orig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Verdana"/>
                </a:rPr>
                <a:t>Unidades a nivel glo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71640" y="765000"/>
            <a:ext cx="6913440" cy="459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LTERNATIVAS DE ESTRUCTURA PARA CAPITALIZAR HABILIDADES DISTINTIVAS, VENTAJA COMPETITIVA, ORIENTACIÓN Y ENFOQUE ESTRATÉ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24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68000" y="692280"/>
            <a:ext cx="55436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ditoría administrativa en empresas con unidades desconcentradas, descentralizadas y glob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549360"/>
            <a:ext cx="1873080" cy="1079280"/>
          </a:xfrm>
          <a:custGeom>
            <a:avLst/>
            <a:gdLst>
              <a:gd name="textAreaLeft" fmla="*/ 292680 w 1873080"/>
              <a:gd name="textAreaRight" fmla="*/ 1602360 w 1873080"/>
              <a:gd name="textAreaTop" fmla="*/ 270360 h 1079280"/>
              <a:gd name="textAreaBottom" fmla="*/ 808920 h 107928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620640"/>
            <a:ext cx="1873080" cy="1079640"/>
          </a:xfrm>
          <a:custGeom>
            <a:avLst/>
            <a:gdLst>
              <a:gd name="textAreaLeft" fmla="*/ 292680 w 1873080"/>
              <a:gd name="textAreaRight" fmla="*/ 1602360 w 1873080"/>
              <a:gd name="textAreaTop" fmla="*/ 270360 h 1079640"/>
              <a:gd name="textAreaBottom" fmla="*/ 809280 h 107964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480360" cy="4392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5761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ditoría administrativa en empresas con una red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40000" y="620280"/>
            <a:ext cx="56880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ditoría administrativa en empresas que operan en base a función/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620640"/>
            <a:ext cx="1944360" cy="1008000"/>
          </a:xfrm>
          <a:custGeom>
            <a:avLst/>
            <a:gdLst>
              <a:gd name="textAreaLeft" fmla="*/ 303840 w 1944360"/>
              <a:gd name="textAreaRight" fmla="*/ 1663560 w 1944360"/>
              <a:gd name="textAreaTop" fmla="*/ 252360 h 1008000"/>
              <a:gd name="textAreaBottom" fmla="*/ 755640 h 100800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551640" cy="3960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597708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Auditoría administrativa en una empresa con un modelo de organización virtual con unidades a nivel 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765000"/>
            <a:ext cx="1655640" cy="1079640"/>
          </a:xfrm>
          <a:custGeom>
            <a:avLst/>
            <a:gdLst>
              <a:gd name="textAreaLeft" fmla="*/ 258480 w 1655640"/>
              <a:gd name="textAreaRight" fmla="*/ 1416240 w 1655640"/>
              <a:gd name="textAreaTop" fmla="*/ 270360 h 1079640"/>
              <a:gd name="textAreaBottom" fmla="*/ 809280 h 1079640"/>
            </a:gdLst>
            <a:ahLst/>
            <a:rect l="textAreaLeft" t="textAreaTop" r="textAreaRight" b="textAreaBottom"/>
            <a:pathLst>
              <a:path w="21600" h="21600">
                <a:moveTo>
                  <a:pt x="3375" y="5411"/>
                </a:moveTo>
                <a:lnTo>
                  <a:pt x="15342" y="5411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189"/>
                </a:lnTo>
                <a:lnTo>
                  <a:pt x="3375" y="16189"/>
                </a:lnTo>
                <a:close/>
              </a:path>
              <a:path w="21600" h="21600">
                <a:moveTo>
                  <a:pt x="0" y="5411"/>
                </a:moveTo>
                <a:lnTo>
                  <a:pt x="675" y="5411"/>
                </a:lnTo>
                <a:lnTo>
                  <a:pt x="675" y="16189"/>
                </a:lnTo>
                <a:lnTo>
                  <a:pt x="0" y="16189"/>
                </a:lnTo>
                <a:close/>
              </a:path>
              <a:path w="21600" h="21600">
                <a:moveTo>
                  <a:pt x="1350" y="5411"/>
                </a:moveTo>
                <a:lnTo>
                  <a:pt x="2700" y="5411"/>
                </a:lnTo>
                <a:lnTo>
                  <a:pt x="2700" y="16189"/>
                </a:lnTo>
                <a:lnTo>
                  <a:pt x="1350" y="16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826920" y="1052640"/>
            <a:ext cx="7345080" cy="4608000"/>
            <a:chOff x="826920" y="1052640"/>
            <a:chExt cx="7345080" cy="4608000"/>
          </a:xfrm>
        </p:grpSpPr>
        <p:sp>
          <p:nvSpPr>
            <p:cNvPr id="168" name=""/>
            <p:cNvSpPr/>
            <p:nvPr/>
          </p:nvSpPr>
          <p:spPr>
            <a:xfrm>
              <a:off x="826920" y="1052640"/>
              <a:ext cx="7345080" cy="46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2720" y="1140120"/>
              <a:ext cx="6973920" cy="404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Verdana"/>
                </a:rPr>
                <a:t>Auditoría en el Sector Públ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Verdana"/>
                </a:rPr>
                <a:t>Programa Anual de Control y Auditorí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Verdana"/>
                </a:rPr>
                <a:t>Normas Generales de Auditoría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Verdana"/>
                </a:rPr>
                <a:t>Marco de Actuación de los Órganos Internos de Control en las Dependencias del Sector Central, y en las entidades del Sector Paraesta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600" spc="-1" strike="noStrike">
                  <a:solidFill>
                    <a:srgbClr val="000000"/>
                  </a:solidFill>
                  <a:latin typeface="Verdana"/>
                </a:rPr>
                <a:t>Guía General de Auditoría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 </a:t>
              </a: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Guía General para Revisiones de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539640" y="981000"/>
            <a:ext cx="8136000" cy="5687640"/>
            <a:chOff x="539640" y="981000"/>
            <a:chExt cx="8136000" cy="5687640"/>
          </a:xfrm>
        </p:grpSpPr>
        <p:sp>
          <p:nvSpPr>
            <p:cNvPr id="171" name=""/>
            <p:cNvSpPr/>
            <p:nvPr/>
          </p:nvSpPr>
          <p:spPr>
            <a:xfrm>
              <a:off x="775440" y="11804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42880" y="1214640"/>
              <a:ext cx="4580280" cy="45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43520" y="1315080"/>
              <a:ext cx="4582080" cy="457560"/>
            </a:xfrm>
            <a:prstGeom prst="rect">
              <a:avLst/>
            </a:prstGeom>
            <a:solidFill>
              <a:srgbClr val="ffd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3480" y="1383480"/>
              <a:ext cx="15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ORGANIZAC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8160" y="138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4000" y="2279160"/>
              <a:ext cx="1636560" cy="2906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6440" y="2381400"/>
              <a:ext cx="1634760" cy="2905920"/>
            </a:xfrm>
            <a:prstGeom prst="rect">
              <a:avLst/>
            </a:prstGeom>
            <a:solidFill>
              <a:srgbClr val="ffdab5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3160" y="24656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76640" y="2279160"/>
              <a:ext cx="1635120" cy="2906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77640" y="2381400"/>
              <a:ext cx="1636560" cy="2905920"/>
            </a:xfrm>
            <a:prstGeom prst="rect">
              <a:avLst/>
            </a:prstGeom>
            <a:solidFill>
              <a:srgbClr val="ffda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04360" y="24656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29200" y="2584080"/>
              <a:ext cx="897480" cy="471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1280" y="2684880"/>
              <a:ext cx="895680" cy="473760"/>
            </a:xfrm>
            <a:prstGeom prst="rect">
              <a:avLst/>
            </a:prstGeom>
            <a:solidFill>
              <a:srgbClr val="ffda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23080" y="27741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Estrateg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68560" y="27529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6640" y="2584080"/>
              <a:ext cx="1045440" cy="471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08720" y="2684880"/>
              <a:ext cx="1043640" cy="473760"/>
            </a:xfrm>
            <a:prstGeom prst="rect">
              <a:avLst/>
            </a:prstGeom>
            <a:solidFill>
              <a:srgbClr val="ffda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35800" y="2696040"/>
              <a:ext cx="767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Supuestos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9000" y="3343320"/>
              <a:ext cx="1043640" cy="626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69280" y="3445920"/>
              <a:ext cx="1045080" cy="624600"/>
            </a:xfrm>
            <a:prstGeom prst="rect">
              <a:avLst/>
            </a:prstGeom>
            <a:solidFill>
              <a:srgbClr val="ffda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8160" y="3496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23280" y="370872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sempeñ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17720" y="36489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98160" y="3817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06640" y="4408200"/>
              <a:ext cx="1045440" cy="473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08720" y="4510440"/>
              <a:ext cx="1043640" cy="471960"/>
            </a:xfrm>
            <a:prstGeom prst="rect">
              <a:avLst/>
            </a:prstGeom>
            <a:solidFill>
              <a:srgbClr val="ffda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7960" y="4643640"/>
              <a:ext cx="826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las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uego tácit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65880" y="4577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29200" y="4408200"/>
              <a:ext cx="897480" cy="473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31280" y="4510440"/>
              <a:ext cx="895680" cy="471960"/>
            </a:xfrm>
            <a:prstGeom prst="rect">
              <a:avLst/>
            </a:prstGeom>
            <a:solidFill>
              <a:srgbClr val="ffda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24160" y="4643640"/>
              <a:ext cx="49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l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82800" y="4577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3520" y="3343320"/>
              <a:ext cx="1330560" cy="761400"/>
            </a:xfrm>
            <a:prstGeom prst="rect">
              <a:avLst/>
            </a:prstGeom>
            <a:solidFill>
              <a:srgbClr val="ffd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25960" y="3445920"/>
              <a:ext cx="1330560" cy="759240"/>
            </a:xfrm>
            <a:prstGeom prst="rect">
              <a:avLst/>
            </a:prstGeom>
            <a:solidFill>
              <a:srgbClr val="ffd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43680" y="3478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44040" y="3699000"/>
              <a:ext cx="1116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8320" y="3699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60640" y="3191040"/>
              <a:ext cx="1330560" cy="761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1280" y="3293280"/>
              <a:ext cx="1330560" cy="761040"/>
            </a:xfrm>
            <a:prstGeom prst="rect">
              <a:avLst/>
            </a:prstGeom>
            <a:solidFill>
              <a:srgbClr val="ffd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6400" y="3475080"/>
              <a:ext cx="1591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COMPORTA</a:t>
              </a: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MIENT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5840" y="3327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83680" y="378648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TÓRIC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45600" y="3733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652400" y="1975680"/>
              <a:ext cx="246960" cy="405360"/>
              <a:chOff x="1652400" y="1975680"/>
              <a:chExt cx="246960" cy="405360"/>
            </a:xfrm>
          </p:grpSpPr>
          <p:sp>
            <p:nvSpPr>
              <p:cNvPr id="215" name=""/>
              <p:cNvSpPr/>
              <p:nvPr/>
            </p:nvSpPr>
            <p:spPr>
              <a:xfrm>
                <a:off x="1751400" y="1975680"/>
                <a:ext cx="147960" cy="303120"/>
              </a:xfrm>
              <a:custGeom>
                <a:avLst/>
                <a:gdLst/>
                <a:ahLst/>
                <a:rect l="l" t="t" r="r" b="b"/>
                <a:pathLst>
                  <a:path w="94" h="187">
                    <a:moveTo>
                      <a:pt x="50" y="0"/>
                    </a:moveTo>
                    <a:lnTo>
                      <a:pt x="94" y="41"/>
                    </a:lnTo>
                    <a:lnTo>
                      <a:pt x="75" y="41"/>
                    </a:lnTo>
                    <a:lnTo>
                      <a:pt x="75" y="145"/>
                    </a:lnTo>
                    <a:lnTo>
                      <a:pt x="94" y="145"/>
                    </a:lnTo>
                    <a:lnTo>
                      <a:pt x="50" y="187"/>
                    </a:lnTo>
                    <a:lnTo>
                      <a:pt x="0" y="145"/>
                    </a:lnTo>
                    <a:lnTo>
                      <a:pt x="25" y="145"/>
                    </a:lnTo>
                    <a:lnTo>
                      <a:pt x="25" y="41"/>
                    </a:lnTo>
                    <a:lnTo>
                      <a:pt x="0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52400" y="2075760"/>
                <a:ext cx="147960" cy="305280"/>
              </a:xfrm>
              <a:custGeom>
                <a:avLst/>
                <a:gdLst/>
                <a:ahLst/>
                <a:rect l="l" t="t" r="r" b="b"/>
                <a:pathLst>
                  <a:path w="94" h="188">
                    <a:moveTo>
                      <a:pt x="50" y="0"/>
                    </a:moveTo>
                    <a:lnTo>
                      <a:pt x="94" y="42"/>
                    </a:lnTo>
                    <a:lnTo>
                      <a:pt x="75" y="42"/>
                    </a:lnTo>
                    <a:lnTo>
                      <a:pt x="75" y="146"/>
                    </a:lnTo>
                    <a:lnTo>
                      <a:pt x="94" y="146"/>
                    </a:lnTo>
                    <a:lnTo>
                      <a:pt x="50" y="188"/>
                    </a:lnTo>
                    <a:lnTo>
                      <a:pt x="0" y="146"/>
                    </a:lnTo>
                    <a:lnTo>
                      <a:pt x="25" y="146"/>
                    </a:lnTo>
                    <a:lnTo>
                      <a:pt x="25" y="42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da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313880" y="1975680"/>
              <a:ext cx="245520" cy="405360"/>
              <a:chOff x="4313880" y="1975680"/>
              <a:chExt cx="245520" cy="405360"/>
            </a:xfrm>
          </p:grpSpPr>
          <p:sp>
            <p:nvSpPr>
              <p:cNvPr id="218" name=""/>
              <p:cNvSpPr/>
              <p:nvPr/>
            </p:nvSpPr>
            <p:spPr>
              <a:xfrm>
                <a:off x="4411800" y="1975680"/>
                <a:ext cx="147600" cy="303120"/>
              </a:xfrm>
              <a:custGeom>
                <a:avLst/>
                <a:gdLst/>
                <a:ahLst/>
                <a:rect l="l" t="t" r="r" b="b"/>
                <a:pathLst>
                  <a:path w="94" h="187">
                    <a:moveTo>
                      <a:pt x="50" y="0"/>
                    </a:moveTo>
                    <a:lnTo>
                      <a:pt x="94" y="41"/>
                    </a:lnTo>
                    <a:lnTo>
                      <a:pt x="75" y="41"/>
                    </a:lnTo>
                    <a:lnTo>
                      <a:pt x="75" y="145"/>
                    </a:lnTo>
                    <a:lnTo>
                      <a:pt x="94" y="145"/>
                    </a:lnTo>
                    <a:lnTo>
                      <a:pt x="50" y="187"/>
                    </a:lnTo>
                    <a:lnTo>
                      <a:pt x="0" y="145"/>
                    </a:lnTo>
                    <a:lnTo>
                      <a:pt x="25" y="145"/>
                    </a:lnTo>
                    <a:lnTo>
                      <a:pt x="25" y="41"/>
                    </a:lnTo>
                    <a:lnTo>
                      <a:pt x="0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13880" y="2075760"/>
                <a:ext cx="146520" cy="30528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50" y="0"/>
                    </a:moveTo>
                    <a:lnTo>
                      <a:pt x="93" y="42"/>
                    </a:lnTo>
                    <a:lnTo>
                      <a:pt x="75" y="42"/>
                    </a:lnTo>
                    <a:lnTo>
                      <a:pt x="75" y="146"/>
                    </a:lnTo>
                    <a:lnTo>
                      <a:pt x="93" y="146"/>
                    </a:lnTo>
                    <a:lnTo>
                      <a:pt x="50" y="188"/>
                    </a:lnTo>
                    <a:lnTo>
                      <a:pt x="0" y="146"/>
                    </a:lnTo>
                    <a:lnTo>
                      <a:pt x="25" y="146"/>
                    </a:lnTo>
                    <a:lnTo>
                      <a:pt x="25" y="42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da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417080" y="1975680"/>
              <a:ext cx="245520" cy="405360"/>
              <a:chOff x="7417080" y="1975680"/>
              <a:chExt cx="245520" cy="405360"/>
            </a:xfrm>
          </p:grpSpPr>
          <p:sp>
            <p:nvSpPr>
              <p:cNvPr id="221" name=""/>
              <p:cNvSpPr/>
              <p:nvPr/>
            </p:nvSpPr>
            <p:spPr>
              <a:xfrm>
                <a:off x="7514640" y="1975680"/>
                <a:ext cx="147960" cy="303120"/>
              </a:xfrm>
              <a:custGeom>
                <a:avLst/>
                <a:gdLst/>
                <a:ahLst/>
                <a:rect l="l" t="t" r="r" b="b"/>
                <a:pathLst>
                  <a:path w="94" h="187">
                    <a:moveTo>
                      <a:pt x="50" y="0"/>
                    </a:moveTo>
                    <a:lnTo>
                      <a:pt x="94" y="41"/>
                    </a:lnTo>
                    <a:lnTo>
                      <a:pt x="75" y="41"/>
                    </a:lnTo>
                    <a:lnTo>
                      <a:pt x="75" y="145"/>
                    </a:lnTo>
                    <a:lnTo>
                      <a:pt x="94" y="145"/>
                    </a:lnTo>
                    <a:lnTo>
                      <a:pt x="50" y="187"/>
                    </a:lnTo>
                    <a:lnTo>
                      <a:pt x="0" y="145"/>
                    </a:lnTo>
                    <a:lnTo>
                      <a:pt x="25" y="145"/>
                    </a:lnTo>
                    <a:lnTo>
                      <a:pt x="25" y="41"/>
                    </a:lnTo>
                    <a:lnTo>
                      <a:pt x="0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17080" y="2075760"/>
                <a:ext cx="147600" cy="305280"/>
              </a:xfrm>
              <a:custGeom>
                <a:avLst/>
                <a:gdLst/>
                <a:ahLst/>
                <a:rect l="l" t="t" r="r" b="b"/>
                <a:pathLst>
                  <a:path w="94" h="188">
                    <a:moveTo>
                      <a:pt x="50" y="0"/>
                    </a:moveTo>
                    <a:lnTo>
                      <a:pt x="94" y="42"/>
                    </a:lnTo>
                    <a:lnTo>
                      <a:pt x="75" y="42"/>
                    </a:lnTo>
                    <a:lnTo>
                      <a:pt x="75" y="146"/>
                    </a:lnTo>
                    <a:lnTo>
                      <a:pt x="94" y="146"/>
                    </a:lnTo>
                    <a:lnTo>
                      <a:pt x="50" y="188"/>
                    </a:lnTo>
                    <a:lnTo>
                      <a:pt x="0" y="146"/>
                    </a:lnTo>
                    <a:lnTo>
                      <a:pt x="25" y="146"/>
                    </a:lnTo>
                    <a:lnTo>
                      <a:pt x="25" y="42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dab5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455480" y="1670400"/>
              <a:ext cx="6513120" cy="321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57560" y="1772640"/>
              <a:ext cx="6511680" cy="321120"/>
            </a:xfrm>
            <a:prstGeom prst="rect">
              <a:avLst/>
            </a:prstGeom>
            <a:solidFill>
              <a:srgbClr val="ffda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49240" y="18230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US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80240" y="1823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28840" y="1823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0960" y="1823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3800" y="18230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27440" y="1823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73040" y="1823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55160" y="1823040"/>
              <a:ext cx="66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FECT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5280" y="1823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086520" y="3343320"/>
              <a:ext cx="541800" cy="710280"/>
              <a:chOff x="6086520" y="3343320"/>
              <a:chExt cx="541800" cy="710280"/>
            </a:xfrm>
          </p:grpSpPr>
          <p:sp>
            <p:nvSpPr>
              <p:cNvPr id="235" name=""/>
              <p:cNvSpPr/>
              <p:nvPr/>
            </p:nvSpPr>
            <p:spPr>
              <a:xfrm>
                <a:off x="6185520" y="3343320"/>
                <a:ext cx="442800" cy="608040"/>
              </a:xfrm>
              <a:custGeom>
                <a:avLst/>
                <a:gdLst/>
                <a:ahLst/>
                <a:rect l="l" t="t" r="r" b="b"/>
                <a:pathLst>
                  <a:path w="281" h="375">
                    <a:moveTo>
                      <a:pt x="212" y="0"/>
                    </a:moveTo>
                    <a:lnTo>
                      <a:pt x="212" y="94"/>
                    </a:lnTo>
                    <a:lnTo>
                      <a:pt x="0" y="94"/>
                    </a:lnTo>
                    <a:lnTo>
                      <a:pt x="0" y="281"/>
                    </a:lnTo>
                    <a:lnTo>
                      <a:pt x="212" y="281"/>
                    </a:lnTo>
                    <a:lnTo>
                      <a:pt x="212" y="375"/>
                    </a:lnTo>
                    <a:lnTo>
                      <a:pt x="281" y="18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86520" y="3445560"/>
                <a:ext cx="442800" cy="608040"/>
              </a:xfrm>
              <a:custGeom>
                <a:avLst/>
                <a:gdLst/>
                <a:ahLst/>
                <a:rect l="l" t="t" r="r" b="b"/>
                <a:pathLst>
                  <a:path w="281" h="375">
                    <a:moveTo>
                      <a:pt x="213" y="0"/>
                    </a:moveTo>
                    <a:lnTo>
                      <a:pt x="213" y="93"/>
                    </a:lnTo>
                    <a:lnTo>
                      <a:pt x="0" y="93"/>
                    </a:lnTo>
                    <a:lnTo>
                      <a:pt x="0" y="281"/>
                    </a:lnTo>
                    <a:lnTo>
                      <a:pt x="213" y="281"/>
                    </a:lnTo>
                    <a:lnTo>
                      <a:pt x="213" y="375"/>
                    </a:lnTo>
                    <a:lnTo>
                      <a:pt x="281" y="187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ffda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391840" y="3343320"/>
              <a:ext cx="541800" cy="710280"/>
              <a:chOff x="2391840" y="3343320"/>
              <a:chExt cx="541800" cy="7102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90840" y="3343320"/>
                <a:ext cx="442800" cy="608040"/>
              </a:xfrm>
              <a:custGeom>
                <a:avLst/>
                <a:gdLst/>
                <a:ahLst/>
                <a:rect l="l" t="t" r="r" b="b"/>
                <a:pathLst>
                  <a:path w="281" h="375">
                    <a:moveTo>
                      <a:pt x="212" y="0"/>
                    </a:moveTo>
                    <a:lnTo>
                      <a:pt x="212" y="94"/>
                    </a:lnTo>
                    <a:lnTo>
                      <a:pt x="0" y="94"/>
                    </a:lnTo>
                    <a:lnTo>
                      <a:pt x="0" y="281"/>
                    </a:lnTo>
                    <a:lnTo>
                      <a:pt x="212" y="281"/>
                    </a:lnTo>
                    <a:lnTo>
                      <a:pt x="212" y="375"/>
                    </a:lnTo>
                    <a:lnTo>
                      <a:pt x="281" y="18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91840" y="3445560"/>
                <a:ext cx="442800" cy="608040"/>
              </a:xfrm>
              <a:custGeom>
                <a:avLst/>
                <a:gdLst/>
                <a:ahLst/>
                <a:rect l="l" t="t" r="r" b="b"/>
                <a:pathLst>
                  <a:path w="281" h="375">
                    <a:moveTo>
                      <a:pt x="212" y="0"/>
                    </a:moveTo>
                    <a:lnTo>
                      <a:pt x="212" y="93"/>
                    </a:lnTo>
                    <a:lnTo>
                      <a:pt x="0" y="93"/>
                    </a:lnTo>
                    <a:lnTo>
                      <a:pt x="0" y="281"/>
                    </a:lnTo>
                    <a:lnTo>
                      <a:pt x="212" y="281"/>
                    </a:lnTo>
                    <a:lnTo>
                      <a:pt x="212" y="375"/>
                    </a:lnTo>
                    <a:lnTo>
                      <a:pt x="281" y="187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ffda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455480" y="5812200"/>
              <a:ext cx="6513120" cy="321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7560" y="5912640"/>
              <a:ext cx="6511680" cy="321120"/>
            </a:xfrm>
            <a:prstGeom prst="rect">
              <a:avLst/>
            </a:prstGeom>
            <a:solidFill>
              <a:srgbClr val="ffda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75520" y="5946840"/>
              <a:ext cx="223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ROALIMENT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52360" y="5946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209600" y="5354280"/>
              <a:ext cx="689760" cy="557640"/>
              <a:chOff x="1209600" y="5354280"/>
              <a:chExt cx="689760" cy="557640"/>
            </a:xfrm>
          </p:grpSpPr>
          <p:sp>
            <p:nvSpPr>
              <p:cNvPr id="245" name=""/>
              <p:cNvSpPr/>
              <p:nvPr/>
            </p:nvSpPr>
            <p:spPr>
              <a:xfrm>
                <a:off x="1308240" y="5354280"/>
                <a:ext cx="591120" cy="457560"/>
              </a:xfrm>
              <a:custGeom>
                <a:avLst/>
                <a:gdLst/>
                <a:ahLst/>
                <a:rect l="l" t="t" r="r" b="b"/>
                <a:pathLst>
                  <a:path w="375" h="282">
                    <a:moveTo>
                      <a:pt x="0" y="73"/>
                    </a:moveTo>
                    <a:lnTo>
                      <a:pt x="93" y="73"/>
                    </a:lnTo>
                    <a:lnTo>
                      <a:pt x="93" y="282"/>
                    </a:lnTo>
                    <a:lnTo>
                      <a:pt x="281" y="282"/>
                    </a:lnTo>
                    <a:lnTo>
                      <a:pt x="281" y="73"/>
                    </a:lnTo>
                    <a:lnTo>
                      <a:pt x="375" y="73"/>
                    </a:lnTo>
                    <a:lnTo>
                      <a:pt x="187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09600" y="5456520"/>
                <a:ext cx="590760" cy="455400"/>
              </a:xfrm>
              <a:custGeom>
                <a:avLst/>
                <a:gdLst/>
                <a:ahLst/>
                <a:rect l="l" t="t" r="r" b="b"/>
                <a:pathLst>
                  <a:path w="375" h="281">
                    <a:moveTo>
                      <a:pt x="0" y="73"/>
                    </a:moveTo>
                    <a:lnTo>
                      <a:pt x="94" y="73"/>
                    </a:lnTo>
                    <a:lnTo>
                      <a:pt x="94" y="281"/>
                    </a:lnTo>
                    <a:lnTo>
                      <a:pt x="281" y="281"/>
                    </a:lnTo>
                    <a:lnTo>
                      <a:pt x="281" y="73"/>
                    </a:lnTo>
                    <a:lnTo>
                      <a:pt x="375" y="73"/>
                    </a:lnTo>
                    <a:lnTo>
                      <a:pt x="188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da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417080" y="5354280"/>
              <a:ext cx="688320" cy="557640"/>
              <a:chOff x="7417080" y="5354280"/>
              <a:chExt cx="688320" cy="557640"/>
            </a:xfrm>
          </p:grpSpPr>
          <p:sp>
            <p:nvSpPr>
              <p:cNvPr id="248" name=""/>
              <p:cNvSpPr/>
              <p:nvPr/>
            </p:nvSpPr>
            <p:spPr>
              <a:xfrm>
                <a:off x="7514640" y="5354280"/>
                <a:ext cx="590760" cy="457560"/>
              </a:xfrm>
              <a:custGeom>
                <a:avLst/>
                <a:gdLst/>
                <a:ahLst/>
                <a:rect l="l" t="t" r="r" b="b"/>
                <a:pathLst>
                  <a:path w="375" h="282">
                    <a:moveTo>
                      <a:pt x="0" y="73"/>
                    </a:moveTo>
                    <a:lnTo>
                      <a:pt x="94" y="73"/>
                    </a:lnTo>
                    <a:lnTo>
                      <a:pt x="94" y="282"/>
                    </a:lnTo>
                    <a:lnTo>
                      <a:pt x="282" y="282"/>
                    </a:lnTo>
                    <a:lnTo>
                      <a:pt x="282" y="73"/>
                    </a:lnTo>
                    <a:lnTo>
                      <a:pt x="375" y="73"/>
                    </a:lnTo>
                    <a:lnTo>
                      <a:pt x="188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17080" y="5456520"/>
                <a:ext cx="590400" cy="455400"/>
              </a:xfrm>
              <a:custGeom>
                <a:avLst/>
                <a:gdLst/>
                <a:ahLst/>
                <a:rect l="l" t="t" r="r" b="b"/>
                <a:pathLst>
                  <a:path w="375" h="281">
                    <a:moveTo>
                      <a:pt x="0" y="73"/>
                    </a:moveTo>
                    <a:lnTo>
                      <a:pt x="94" y="73"/>
                    </a:lnTo>
                    <a:lnTo>
                      <a:pt x="94" y="281"/>
                    </a:lnTo>
                    <a:lnTo>
                      <a:pt x="281" y="281"/>
                    </a:lnTo>
                    <a:lnTo>
                      <a:pt x="281" y="73"/>
                    </a:lnTo>
                    <a:lnTo>
                      <a:pt x="375" y="73"/>
                    </a:lnTo>
                    <a:lnTo>
                      <a:pt x="187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da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313880" y="5354280"/>
              <a:ext cx="688320" cy="557640"/>
              <a:chOff x="4313880" y="5354280"/>
              <a:chExt cx="688320" cy="557640"/>
            </a:xfrm>
          </p:grpSpPr>
          <p:sp>
            <p:nvSpPr>
              <p:cNvPr id="251" name=""/>
              <p:cNvSpPr/>
              <p:nvPr/>
            </p:nvSpPr>
            <p:spPr>
              <a:xfrm>
                <a:off x="4411800" y="5354280"/>
                <a:ext cx="590400" cy="457560"/>
              </a:xfrm>
              <a:custGeom>
                <a:avLst/>
                <a:gdLst/>
                <a:ahLst/>
                <a:rect l="l" t="t" r="r" b="b"/>
                <a:pathLst>
                  <a:path w="375" h="282">
                    <a:moveTo>
                      <a:pt x="0" y="73"/>
                    </a:moveTo>
                    <a:lnTo>
                      <a:pt x="94" y="73"/>
                    </a:lnTo>
                    <a:lnTo>
                      <a:pt x="94" y="282"/>
                    </a:lnTo>
                    <a:lnTo>
                      <a:pt x="281" y="282"/>
                    </a:lnTo>
                    <a:lnTo>
                      <a:pt x="281" y="73"/>
                    </a:lnTo>
                    <a:lnTo>
                      <a:pt x="375" y="73"/>
                    </a:lnTo>
                    <a:lnTo>
                      <a:pt x="187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13880" y="5456520"/>
                <a:ext cx="589680" cy="455400"/>
              </a:xfrm>
              <a:custGeom>
                <a:avLst/>
                <a:gdLst/>
                <a:ahLst/>
                <a:rect l="l" t="t" r="r" b="b"/>
                <a:pathLst>
                  <a:path w="374" h="281">
                    <a:moveTo>
                      <a:pt x="0" y="73"/>
                    </a:moveTo>
                    <a:lnTo>
                      <a:pt x="93" y="73"/>
                    </a:lnTo>
                    <a:lnTo>
                      <a:pt x="93" y="281"/>
                    </a:lnTo>
                    <a:lnTo>
                      <a:pt x="281" y="281"/>
                    </a:lnTo>
                    <a:lnTo>
                      <a:pt x="281" y="73"/>
                    </a:lnTo>
                    <a:lnTo>
                      <a:pt x="374" y="73"/>
                    </a:lnTo>
                    <a:lnTo>
                      <a:pt x="187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da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396240" y="3343320"/>
              <a:ext cx="168120" cy="861120"/>
              <a:chOff x="3396240" y="3343320"/>
              <a:chExt cx="168120" cy="86112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525120" y="3529800"/>
                <a:ext cx="1080" cy="574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95240" y="3343320"/>
                <a:ext cx="69120" cy="236880"/>
              </a:xfrm>
              <a:custGeom>
                <a:avLst/>
                <a:gdLst/>
                <a:ahLst/>
                <a:rect l="l" t="t" r="r" b="b"/>
                <a:pathLst>
                  <a:path w="44" h="146">
                    <a:moveTo>
                      <a:pt x="44" y="146"/>
                    </a:moveTo>
                    <a:lnTo>
                      <a:pt x="25" y="0"/>
                    </a:lnTo>
                    <a:lnTo>
                      <a:pt x="0" y="146"/>
                    </a:lnTo>
                    <a:lnTo>
                      <a:pt x="44" y="1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3426120" y="3630240"/>
                <a:ext cx="1080" cy="57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96240" y="3445560"/>
                <a:ext cx="69120" cy="235440"/>
              </a:xfrm>
              <a:custGeom>
                <a:avLst/>
                <a:gdLst/>
                <a:ahLst/>
                <a:rect l="l" t="t" r="r" b="b"/>
                <a:pathLst>
                  <a:path w="44" h="145">
                    <a:moveTo>
                      <a:pt x="44" y="145"/>
                    </a:moveTo>
                    <a:lnTo>
                      <a:pt x="25" y="0"/>
                    </a:lnTo>
                    <a:lnTo>
                      <a:pt x="0" y="145"/>
                    </a:lnTo>
                    <a:lnTo>
                      <a:pt x="4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017600" y="2684880"/>
              <a:ext cx="541800" cy="218520"/>
              <a:chOff x="4017600" y="2684880"/>
              <a:chExt cx="541800" cy="218520"/>
            </a:xfrm>
          </p:grpSpPr>
          <p:sp>
            <p:nvSpPr>
              <p:cNvPr id="259" name=""/>
              <p:cNvSpPr/>
              <p:nvPr/>
            </p:nvSpPr>
            <p:spPr>
              <a:xfrm>
                <a:off x="4116600" y="2734920"/>
                <a:ext cx="3340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31960" y="2684880"/>
                <a:ext cx="127440" cy="118440"/>
              </a:xfrm>
              <a:custGeom>
                <a:avLst/>
                <a:gdLst/>
                <a:ahLst/>
                <a:rect l="l" t="t" r="r" b="b"/>
                <a:pathLst>
                  <a:path w="81" h="73">
                    <a:moveTo>
                      <a:pt x="0" y="73"/>
                    </a:moveTo>
                    <a:lnTo>
                      <a:pt x="81" y="31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17600" y="2837520"/>
                <a:ext cx="33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32600" y="2787120"/>
                <a:ext cx="127440" cy="116280"/>
              </a:xfrm>
              <a:custGeom>
                <a:avLst/>
                <a:gdLst/>
                <a:ahLst/>
                <a:rect l="l" t="t" r="r" b="b"/>
                <a:pathLst>
                  <a:path w="81" h="72">
                    <a:moveTo>
                      <a:pt x="0" y="72"/>
                    </a:moveTo>
                    <a:lnTo>
                      <a:pt x="81" y="31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318280" y="3343320"/>
              <a:ext cx="166680" cy="879480"/>
              <a:chOff x="5318280" y="3343320"/>
              <a:chExt cx="166680" cy="87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445720" y="3343320"/>
                <a:ext cx="1080" cy="574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5840" y="3883680"/>
                <a:ext cx="69120" cy="236880"/>
              </a:xfrm>
              <a:custGeom>
                <a:avLst/>
                <a:gdLst/>
                <a:ahLst/>
                <a:rect l="l" t="t" r="r" b="b"/>
                <a:pathLst>
                  <a:path w="44" h="146">
                    <a:moveTo>
                      <a:pt x="0" y="0"/>
                    </a:moveTo>
                    <a:lnTo>
                      <a:pt x="19" y="146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48160" y="3445560"/>
                <a:ext cx="1440" cy="57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18280" y="3985920"/>
                <a:ext cx="69120" cy="236880"/>
              </a:xfrm>
              <a:custGeom>
                <a:avLst/>
                <a:gdLst/>
                <a:ahLst/>
                <a:rect l="l" t="t" r="r" b="b"/>
                <a:pathLst>
                  <a:path w="44" h="146">
                    <a:moveTo>
                      <a:pt x="0" y="0"/>
                    </a:moveTo>
                    <a:lnTo>
                      <a:pt x="19" y="146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165920" y="4661280"/>
              <a:ext cx="539640" cy="220320"/>
              <a:chOff x="4165920" y="4661280"/>
              <a:chExt cx="539640" cy="220320"/>
            </a:xfrm>
          </p:grpSpPr>
          <p:sp>
            <p:nvSpPr>
              <p:cNvPr id="269" name=""/>
              <p:cNvSpPr/>
              <p:nvPr/>
            </p:nvSpPr>
            <p:spPr>
              <a:xfrm flipH="1">
                <a:off x="4371840" y="4713120"/>
                <a:ext cx="33372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63480" y="4661280"/>
                <a:ext cx="138600" cy="118080"/>
              </a:xfrm>
              <a:custGeom>
                <a:avLst/>
                <a:gdLst/>
                <a:ahLst/>
                <a:rect l="l" t="t" r="r" b="b"/>
                <a:pathLst>
                  <a:path w="88" h="73">
                    <a:moveTo>
                      <a:pt x="88" y="0"/>
                    </a:moveTo>
                    <a:lnTo>
                      <a:pt x="0" y="42"/>
                    </a:lnTo>
                    <a:lnTo>
                      <a:pt x="88" y="73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4274280" y="4813560"/>
                <a:ext cx="33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65920" y="4763520"/>
                <a:ext cx="137160" cy="1180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0"/>
                    </a:moveTo>
                    <a:lnTo>
                      <a:pt x="0" y="42"/>
                    </a:lnTo>
                    <a:lnTo>
                      <a:pt x="87" y="7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39640" y="981000"/>
              <a:ext cx="8136000" cy="56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39640" y="476280"/>
            <a:ext cx="82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Análisis de causa-efecto del desempeño organiz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59280" y="1882800"/>
            <a:ext cx="3025440" cy="9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rzas impuls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59280" y="3390840"/>
            <a:ext cx="3025440" cy="90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rzas estabilizad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59280" y="4830840"/>
            <a:ext cx="3025440" cy="90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rzas restric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08360" y="2870280"/>
            <a:ext cx="180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7640" y="2870280"/>
            <a:ext cx="1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76720" y="2870280"/>
            <a:ext cx="180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1882800"/>
            <a:ext cx="1873080" cy="9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1916280"/>
            <a:ext cx="1944720" cy="38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evale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08360" y="4311360"/>
            <a:ext cx="180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2728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2347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427640" y="4311360"/>
            <a:ext cx="1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076720" y="4311360"/>
            <a:ext cx="180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59640" y="3390840"/>
            <a:ext cx="1873080" cy="90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59640" y="4830840"/>
            <a:ext cx="1800000" cy="90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84720" y="23479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84720" y="3789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84720" y="5300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2349360"/>
            <a:ext cx="180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484000" y="378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19280" y="620640"/>
            <a:ext cx="576108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Campo dinámico de fuerzas del cambio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47236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761080" cy="5111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340000" y="476280"/>
            <a:ext cx="4464000" cy="720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Gestión del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RONOLOGÍA DE CONTRIBUCIONE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66760" y="1268280"/>
          <a:ext cx="8648640" cy="5114880"/>
        </p:xfrm>
        <a:graphic>
          <a:graphicData uri="http://schemas.openxmlformats.org/drawingml/2006/table">
            <a:tbl>
              <a:tblPr/>
              <a:tblGrid>
                <a:gridCol w="1104840"/>
                <a:gridCol w="2171880"/>
                <a:gridCol w="5371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u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foq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00 a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m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idencia de prácticas de control administ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solidación de </a:t>
                      </a: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la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nsoría (tu ch´a-yu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eva Españ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 crea la Junta Superior de Hacienda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cual apoya sus acciones</a:t>
                      </a: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de a través de la “visita”, que era una investigación administrativa espec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ames Watt y Mathew Bol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puesta para utilizar la auditoría como mecanismo de 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ames O. McKins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 el seno de la American Economic Association propone el uso de la auditoría administrativa para evaluar a una emp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lliam P. Leo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blica su libro Auditoría Administrativa (inglé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32360" cy="432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765000"/>
            <a:ext cx="4248000" cy="719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olígono de tendencia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55640" y="476280"/>
            <a:ext cx="741672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Verdana"/>
              </a:rPr>
              <a:t>Enrique Benjamí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Verdana"/>
              </a:rPr>
              <a:t>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6600"/>
                </a:solidFill>
                <a:latin typeface="Verdana"/>
              </a:rPr>
              <a:t>Port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www. pearsoneducacion.net/frank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6600"/>
                </a:solidFill>
                <a:latin typeface="Verdana"/>
              </a:rPr>
              <a:t>Correo electrón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bfranklin@iberoamericanaescritor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benjamin_franklin@oficinadecorre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Verdana"/>
              </a:rPr>
              <a:t>efranklin@prodigy.net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66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2349360"/>
            <a:ext cx="83818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</a:t>
            </a:r>
            <a:r>
              <a:rPr b="1" lang="es-ES" sz="3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La vida es aquello que te va sucediendo mientras te empeñas en hacer otros</a:t>
            </a:r>
            <a:r>
              <a:rPr b="1" lang="es-MX" sz="3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lanes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 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JOHN LENN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24080" y="4187880"/>
            <a:ext cx="38102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30360"/>
            <a:ext cx="822960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na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  <a:ea typeface="Arial"/>
              </a:rPr>
              <a:t> auditoría administrativa es la revisión analítica total o parcial de una organización con el propósito de conocer su nivel de desempeño y perfilar oportunidades de mejora para innovar valor y crear una ventaja competitiva sust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6360" cy="36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aturaleza jur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riterios de fun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tilo de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Enfoque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roceso administ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Giro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ector de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Ámbito de ope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amaño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úmero de emple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27280" y="2133720"/>
            <a:ext cx="4273560" cy="36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Relaciones de 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sarrollo tecnológ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istemas de comunicación 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ivel de desemp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Trato a clientes       (internos y extern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n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roductos y/o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istema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404640"/>
            <a:ext cx="2476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pperplate Gothic Bold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341360"/>
            <a:ext cx="3581280" cy="854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19ea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1341360"/>
            <a:ext cx="3645000" cy="854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885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421000"/>
            <a:ext cx="3533760" cy="854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de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2421000"/>
            <a:ext cx="3691080" cy="82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5c3a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SER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3500280"/>
            <a:ext cx="3527640" cy="854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2cab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500280"/>
            <a:ext cx="3672000" cy="82332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581360"/>
            <a:ext cx="3527640" cy="854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8c7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4581360"/>
            <a:ext cx="3672000" cy="854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ed8e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5661000"/>
            <a:ext cx="3527640" cy="854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TE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5661000"/>
            <a:ext cx="3660840" cy="854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bd8fe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VIN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4187880"/>
            <a:ext cx="38102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mpo de 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057400"/>
            <a:ext cx="4572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Sector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Sector 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124080" y="4187880"/>
            <a:ext cx="38102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87280" y="1341360"/>
            <a:ext cx="6769080" cy="4679640"/>
            <a:chOff x="1187280" y="1341360"/>
            <a:chExt cx="6769080" cy="4679640"/>
          </a:xfrm>
        </p:grpSpPr>
        <p:sp>
          <p:nvSpPr>
            <p:cNvPr id="68" name=""/>
            <p:cNvSpPr/>
            <p:nvPr/>
          </p:nvSpPr>
          <p:spPr>
            <a:xfrm>
              <a:off x="1187280" y="1341360"/>
              <a:ext cx="6769080" cy="46796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75e2c7"/>
                </a:gs>
                <a:gs pos="100000">
                  <a:srgbClr val="00cc99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4720" y="1429920"/>
              <a:ext cx="64270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Poder Ejecutiv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pendencias del Ejecutivo Federal (Secretarías o Ministerios de Estad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ntidades Paraestat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rganismos Autóno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Gobiernos de los Estados (Entidades Federativas o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partament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Gabinete presiden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isiones, coordinaciones o consejos intersecretari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canismos especi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oder Legislativ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Cámara de dipu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Cámara de senad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Comisiones y/o grupos especiales de estu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oder Judi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Suprema Corte de Justicia de la N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Tribunal Electoral del Poder Judicial de la Fede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Consejo de la Judicatura Fed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2843280" y="404640"/>
            <a:ext cx="36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Stencil"/>
              </a:rPr>
              <a:t>SECTOR PÚBLICO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Stencil"/>
              <a:ea typeface="Stencil"/>
            </a:endParaRPr>
          </a:p>
        </p:txBody>
      </p:sp>
    </p:spTree>
  </p:cSld>
  <p:transition spd="med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5:57:27Z</dcterms:created>
  <dc:creator>Enrique Benjamín Franklin F.</dc:creator>
  <dc:description/>
  <dc:language>en-US</dc:language>
  <cp:lastModifiedBy>Computadora Personal</cp:lastModifiedBy>
  <dcterms:modified xsi:type="dcterms:W3CDTF">2006-08-24T02:02:39Z</dcterms:modified>
  <cp:revision>164</cp:revision>
  <dc:subject/>
  <dc:title>Auditoría administrativa</dc:title>
</cp:coreProperties>
</file>