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D83-6F0B-490D-94A5-29B0C813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B8F-A9CD-4A81-BF8A-C582CDE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668-8F1F-49C7-8B07-3D32759A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F6-2DD3-476C-9FBE-130F6ED1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224D-01A4-4D07-9A71-E0BFA0ED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FB3-2F60-4DD4-9144-2326064C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12C-7F3E-4627-AD15-2760A35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36C-D1D1-4E54-BE4B-D856C2F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F57-6518-4D89-84CC-3C100EDC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1493-6BBF-4E41-B84F-4CEB2ED0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528-3828-4734-A987-D88A766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E3F-9DD6-4310-A222-6991BFA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3541-FA03-468C-9A47-F2ED226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100-C40E-4DD1-9468-B7BF163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7309-324C-4B72-BAF8-F4C6292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E6FD-3620-4A67-B17F-A53FE137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C992-B33F-43D9-89B4-A291A4DD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61F-7D11-4DA5-A22B-23CE8A9F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522-8030-4865-B748-71434DB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19D-DE02-4A16-B817-BC41A031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FCD-72A6-4C41-8EC0-58B00534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2F5-AFF1-4A3C-AD14-ED854C1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69B-FD91-4F70-83DF-9FFDF3D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816-5408-461A-A909-0B003E0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33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5082-C382-4AD0-8CB3-334621E91AB8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369-4111-48BE-843F-E1E791F27941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3333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380880"/>
            <a:ext cx="6553440" cy="189576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empus Sans ITC"/>
              </a:rPr>
              <a:t>LIDER</a:t>
            </a:r>
            <a:r>
              <a:rPr b="1" lang="en-US" sz="5000" spc="-1" strike="noStrike">
                <a:solidFill>
                  <a:srgbClr val="ffffff"/>
                </a:solidFill>
                <a:latin typeface="Tempus Sans ITC"/>
              </a:rPr>
              <a:t>A</a:t>
            </a:r>
            <a:r>
              <a:rPr b="1" lang="en-US" sz="5000" spc="-1" strike="noStrike">
                <a:solidFill>
                  <a:srgbClr val="ffffff"/>
                </a:solidFill>
                <a:latin typeface="Tempus Sans ITC"/>
              </a:rPr>
              <a:t>ZGO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Teoría, aplicación y desarrollo de habil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221000"/>
            <a:ext cx="6336000" cy="720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ENRIQUE BENJAMIN FRANKLIN F.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763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11280" y="3794040"/>
            <a:ext cx="77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1991  se convirtió en la Rejilla del liderazgo (Leadership Grid), trabajo en el cual Anne Adams McCanse relevó a Mou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2600" y="609480"/>
            <a:ext cx="688032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TEORÍA DE LA REJILLA DEL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359080"/>
            <a:ext cx="75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obert Blake y Jane Mouton concibieron la Rejilla gerencial (Managerial Grid), para manejar la eficiencia de los ejecutivos, la cual publicaron en el año de 1964. La actualizaron en 1978 y 198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58920" y="333360"/>
            <a:ext cx="590544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REJILLA DE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6680" y="1197000"/>
            <a:ext cx="8636040" cy="5454360"/>
            <a:chOff x="256680" y="1197000"/>
            <a:chExt cx="8636040" cy="5454360"/>
          </a:xfrm>
        </p:grpSpPr>
        <p:sp>
          <p:nvSpPr>
            <p:cNvPr id="228" name=""/>
            <p:cNvSpPr/>
            <p:nvPr/>
          </p:nvSpPr>
          <p:spPr>
            <a:xfrm>
              <a:off x="1015560" y="1268280"/>
              <a:ext cx="33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1.9. Administración del Club de Gol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1240" y="4557240"/>
              <a:ext cx="30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9.1. Autoridad-Cumplimient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15560" y="4557240"/>
              <a:ext cx="33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1.1. Administración empobreci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9240" y="1268280"/>
              <a:ext cx="361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9.9. Administración de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15560" y="1697400"/>
              <a:ext cx="3251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La atención esmerada a las necesidades de la gente para satisfacer relaciones lleva a una atmósfera de organización cómoda y amigable y a un ritmo de trabaj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01240" y="1554480"/>
              <a:ext cx="3685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Los logros de trabajo son de gente comprometida; la interdependencia a través de “participaciones comunes”  en el propósito de la organización conduce a relaciones de confianza y respe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7920" y="4771800"/>
              <a:ext cx="289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El ejercicio del mínimo esfuerzo para la ejecución del trabajo es apropiado para sostener la membresía de la organiz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3600" y="4771800"/>
              <a:ext cx="3540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La eficiencia de las operaciones resulta del arreglo de las condiciones de trabajo, de modo que los elementos humanos interfieran en grado mínim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8040" y="2984400"/>
              <a:ext cx="390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5.5. Administración a mitad del cam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88600" y="3198600"/>
              <a:ext cx="4046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El desempeño adecuado de la organización es posible a través de equilibrar la necesidad de que se hagan las cosas y mantener el estado de ánimo de la gente en un nivel satisfacto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1200" y="1197000"/>
              <a:ext cx="7515720" cy="4790160"/>
            </a:xfrm>
            <a:prstGeom prst="rect">
              <a:avLst/>
            </a:prstGeom>
            <a:noFill/>
            <a:ln cap="rnd" w="28440">
              <a:solidFill>
                <a:srgbClr val="9dc7f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8600" y="6344280"/>
              <a:ext cx="42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PREOCUPACIÓN POR LA PRODUC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6000">
              <a:off x="-1301760" y="3563280"/>
              <a:ext cx="350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PREOCUPACIÓN POR LA G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6680" y="558792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Ba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800" y="1290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Al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21320" y="622368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Ba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8240" y="62236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Al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6920" y="241380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6920" y="348480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6920" y="398520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6920" y="448560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6920" y="505728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6920" y="562968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6920" y="184032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6920" y="291276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86920" y="1339920"/>
              <a:ext cx="5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151400">
              <a:off x="596844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151400">
              <a:off x="423432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151400">
              <a:off x="336708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151400">
              <a:off x="2572200" y="6021360"/>
              <a:ext cx="500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151400">
              <a:off x="1704960" y="6021360"/>
              <a:ext cx="500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151400">
              <a:off x="90972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151400">
              <a:off x="6691320" y="6021360"/>
              <a:ext cx="500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151400">
              <a:off x="510156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151400">
              <a:off x="7486200" y="6021000"/>
              <a:ext cx="500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4114800"/>
            <a:ext cx="8001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Teoría del liderazgo por contin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xplica la conducta de un líder en función de sus seguidores y la sit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0640" y="495360"/>
            <a:ext cx="7259760" cy="48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empus Sans ITC"/>
              </a:rPr>
              <a:t>TEORÍAS FUNDAMENTALES DEL LIDERAZ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03360"/>
            <a:ext cx="80010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Teoría de los rasgos</a:t>
            </a:r>
            <a:r>
              <a:rPr b="1" lang="es-ES" sz="22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 rasgos físicos, psicológicos, y cualidades en la personalidad de un lí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4680" y="2971800"/>
            <a:ext cx="814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Teoría del comportamie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termina la forma de proceder de un líder a través de sus a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334120"/>
            <a:ext cx="8001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Teoría integral del lideraz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bina rasgos, comportamiento y contingencias para entender la forma de ser de un lí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83080" y="685800"/>
            <a:ext cx="513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FUNCIONES DEL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60240" y="1752480"/>
            <a:ext cx="7861680" cy="4572000"/>
            <a:chOff x="660240" y="1752480"/>
            <a:chExt cx="7861680" cy="4572000"/>
          </a:xfrm>
        </p:grpSpPr>
        <p:sp>
          <p:nvSpPr>
            <p:cNvPr id="271" name=""/>
            <p:cNvSpPr/>
            <p:nvPr/>
          </p:nvSpPr>
          <p:spPr>
            <a:xfrm>
              <a:off x="708840" y="1959120"/>
              <a:ext cx="7813080" cy="39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empus Sans ITC"/>
                </a:rPr>
                <a:t>Funciones                   Funciones               Funcion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empus Sans ITC"/>
                </a:rPr>
                <a:t>Interpersonales           Informativas           Decisiona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 representación          De vigilancia            Emprended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 líder                         De difusión              Manejo de dificultad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 enlace                      De portavoz             De asignació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          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 recur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 negociad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98880" y="1752480"/>
              <a:ext cx="0" cy="4572000"/>
            </a:xfrm>
            <a:prstGeom prst="line">
              <a:avLst/>
            </a:prstGeom>
            <a:ln w="9360">
              <a:solidFill>
                <a:srgbClr val="8b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89440" y="1752480"/>
              <a:ext cx="0" cy="4572000"/>
            </a:xfrm>
            <a:prstGeom prst="line">
              <a:avLst/>
            </a:prstGeom>
            <a:ln w="9360">
              <a:solidFill>
                <a:srgbClr val="8b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60240" y="3048120"/>
              <a:ext cx="7315200" cy="1440"/>
            </a:xfrm>
            <a:prstGeom prst="line">
              <a:avLst/>
            </a:prstGeom>
            <a:ln w="9360">
              <a:solidFill>
                <a:srgbClr val="8b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5120" y="2743200"/>
            <a:ext cx="5181480" cy="2438280"/>
          </a:xfrm>
          <a:custGeom>
            <a:avLst/>
            <a:gdLst>
              <a:gd name="textAreaLeft" fmla="*/ 0 w 5181480"/>
              <a:gd name="textAreaRight" fmla="*/ 5181840 w 5181480"/>
              <a:gd name="textAreaTop" fmla="*/ 628560 h 2438280"/>
              <a:gd name="textAreaBottom" fmla="*/ 1809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5569"/>
                </a:moveTo>
                <a:lnTo>
                  <a:pt x="0" y="16031"/>
                </a:lnTo>
                <a:lnTo>
                  <a:pt x="8126" y="16031"/>
                </a:lnTo>
                <a:lnTo>
                  <a:pt x="8126" y="18745"/>
                </a:lnTo>
                <a:lnTo>
                  <a:pt x="5831" y="18745"/>
                </a:lnTo>
                <a:lnTo>
                  <a:pt x="10800" y="21600"/>
                </a:lnTo>
                <a:lnTo>
                  <a:pt x="15769" y="18745"/>
                </a:lnTo>
                <a:lnTo>
                  <a:pt x="13474" y="18745"/>
                </a:lnTo>
                <a:lnTo>
                  <a:pt x="13474" y="16031"/>
                </a:lnTo>
                <a:lnTo>
                  <a:pt x="21600" y="16031"/>
                </a:lnTo>
                <a:lnTo>
                  <a:pt x="21600" y="5569"/>
                </a:lnTo>
                <a:lnTo>
                  <a:pt x="13474" y="5569"/>
                </a:lnTo>
                <a:lnTo>
                  <a:pt x="13474" y="2855"/>
                </a:lnTo>
                <a:lnTo>
                  <a:pt x="15769" y="2855"/>
                </a:lnTo>
                <a:lnTo>
                  <a:pt x="10800" y="0"/>
                </a:lnTo>
                <a:lnTo>
                  <a:pt x="5831" y="2855"/>
                </a:lnTo>
                <a:lnTo>
                  <a:pt x="8126" y="2855"/>
                </a:lnTo>
                <a:lnTo>
                  <a:pt x="8126" y="5569"/>
                </a:lnTo>
                <a:close/>
              </a:path>
            </a:pathLst>
          </a:custGeom>
          <a:gradFill rotWithShape="0">
            <a:gsLst>
              <a:gs pos="0">
                <a:srgbClr val="b5daff"/>
              </a:gs>
              <a:gs pos="100000">
                <a:srgbClr val="4545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3c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360" y="1905120"/>
            <a:ext cx="8587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minio       Energía        Control interno        Integridad        Flex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mpo Grunge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empus Sans ITC"/>
              </a:rPr>
              <a:t>Rasgos de los líderes ef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nza en        Estabilidad         Inteligencia           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í m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58920" y="333360"/>
            <a:ext cx="6408720" cy="89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MODELO DE LAS CINCO GR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DIMENSIONES DE LA PERS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17360" y="1981080"/>
            <a:ext cx="77353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Rasgos sobresalien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mpus Sans ITC"/>
              </a:rPr>
              <a:t>Emoción.-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eo manifiesto de hacerse cargo de la situació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ser lí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mpus Sans ITC"/>
              </a:rPr>
              <a:t>Empatía.-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to cálido, compasivo y sociable</a:t>
            </a:r>
            <a:r>
              <a:rPr b="1" lang="es-ES" sz="2000" spc="-1" strike="noStrike">
                <a:solidFill>
                  <a:srgbClr val="ffffff"/>
                </a:solidFill>
                <a:latin typeface="Tempo Grung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mpus Sans ITC"/>
              </a:rPr>
              <a:t>Ajuste.-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tocontrol, tranquilidad, resistencia a las pre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mpus Sans ITC"/>
              </a:rPr>
              <a:t>Escrúpulo.-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bajo arduo, orientado al logro, responsabi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credibilida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mpus Sans ITC"/>
              </a:rPr>
              <a:t>Apertura .-</a:t>
            </a:r>
            <a:r>
              <a:rPr b="0" lang="es-E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posición a cambiar y buscar cosas nue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476280"/>
            <a:ext cx="6408720" cy="89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MODELO DE LAS CINCO GR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DIMENSIONES DE LA PERS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69960" y="2436480"/>
            <a:ext cx="5973840" cy="1983600"/>
          </a:xfrm>
          <a:prstGeom prst="flowChartProcess">
            <a:avLst/>
          </a:prstGeom>
          <a:gradFill rotWithShape="0">
            <a:gsLst>
              <a:gs pos="0">
                <a:srgbClr val="a2bdf8"/>
              </a:gs>
              <a:gs pos="100000">
                <a:srgbClr val="32329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25751" dir="2700000" blurRad="0" rotWithShape="0">
              <a:srgbClr val="98b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MOTIVACIÓN Y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627280" y="620640"/>
            <a:ext cx="338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empus Sans ITC"/>
              </a:rPr>
              <a:t>MOTIV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04920" y="2362320"/>
            <a:ext cx="8458200" cy="3504960"/>
            <a:chOff x="304920" y="2362320"/>
            <a:chExt cx="8458200" cy="3504960"/>
          </a:xfrm>
        </p:grpSpPr>
        <p:sp>
          <p:nvSpPr>
            <p:cNvPr id="286" name=""/>
            <p:cNvSpPr/>
            <p:nvPr/>
          </p:nvSpPr>
          <p:spPr>
            <a:xfrm>
              <a:off x="304920" y="2362320"/>
              <a:ext cx="8458200" cy="3504960"/>
            </a:xfrm>
            <a:prstGeom prst="rect">
              <a:avLst/>
            </a:prstGeom>
            <a:noFill/>
            <a:ln w="9360">
              <a:solidFill>
                <a:srgbClr val="00ab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640" y="2819520"/>
              <a:ext cx="838764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Necesidad       Motivo      Comportamiento       Consecuencia      Satisfacción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insatisfa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etroalimen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6520" y="3657600"/>
              <a:ext cx="30456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9520" y="3657600"/>
              <a:ext cx="30456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3657600"/>
              <a:ext cx="30492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81680" y="3657600"/>
              <a:ext cx="30492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638320" y="4724280"/>
              <a:ext cx="205740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4191120"/>
              <a:ext cx="0" cy="533160"/>
            </a:xfrm>
            <a:prstGeom prst="line">
              <a:avLst/>
            </a:prstGeom>
            <a:ln w="9360">
              <a:solidFill>
                <a:srgbClr val="37c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066680" y="3809880"/>
              <a:ext cx="0" cy="914400"/>
            </a:xfrm>
            <a:prstGeom prst="line">
              <a:avLst/>
            </a:prstGeom>
            <a:ln w="9360">
              <a:solidFill>
                <a:srgbClr val="37cb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4724280"/>
              <a:ext cx="2210040" cy="0"/>
            </a:xfrm>
            <a:prstGeom prst="line">
              <a:avLst/>
            </a:prstGeom>
            <a:ln w="9360">
              <a:solidFill>
                <a:srgbClr val="37c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1066680"/>
            <a:ext cx="624816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empus Sans ITC"/>
              </a:rPr>
              <a:t>¿QUÉ ES EL LIDERAZG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819520"/>
            <a:ext cx="7239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el proceso que influye sobre los dem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a alcanzar logros, metas y 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1909800"/>
            <a:ext cx="86104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Tempus Sans ITC"/>
              </a:rPr>
              <a:t>Teoría                    Creador              Año                        Concepto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Jerarquía de las    Abraham Maslow     1943        Las personas atienden  a cin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Necesidades                                                     niveles de necesidade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otivarse: fisiológicas, de segurida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ociales, de estima y de autorrea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Bifactorial            Frederick Herzberg   1964        Las  personas se motivan en fun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 factores motivadores (orden superior)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y no de factores higiénicos (orden inferi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Necesidades       Henry Murray            1938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Sostiene que las personas se  sient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Adquiridas          David McClelland       1961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motivadas por su necesidad de logr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John Atkinson           1964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oder y afil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609480"/>
            <a:ext cx="583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TEORÍAS DE LA 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6480" y="2168640"/>
            <a:ext cx="84117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 la equidad       J. Stacy Adams          1965       Propone que las personas se moti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uando perciben que es equitativo 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insumo con el produ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 las                    Vícto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H. Vroom       1964      Afirma que las personas se comportará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xpectativas                                                      de acuerdo a la probabilidad percib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 que su esfuerzo los conducirá a u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resultado y qué tanto se valore és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l                         E.A. Locke              1981      Plantea  que a las personas motiv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stablecimiento       K.N. Shaw                            metas difíciles pero alcanz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 Objetivos           L.M. Sa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.P. Lath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609480"/>
            <a:ext cx="583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TEORÍAS DE LA 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51160" y="2182680"/>
            <a:ext cx="86191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l                         B.F. Skinner              1971      Establece que las consecuencias 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Reforzamiento         F.Luthans                  1999      comportamiento determinan 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otivación para actuar de 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an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RG                      Clayton Alderfer          1972      Postula tres conjuntos de necesidades: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xistencia: deseos mater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Relación: socia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recimiento: cambio produ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nriquecimiento    J.Richard Hackman       1975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fine las dimensiones centrales del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l Puesto            G. Oldham     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esto y las relaciona con est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R. Janson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sicológicos y resultad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K. Purdy         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y de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609480"/>
            <a:ext cx="583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TEORÍAS DE LA 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1930320"/>
            <a:ext cx="8001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FICACIA DEL LÍ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(Fred  E. Fiedler, 1951)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termina la orientación del estilo del líder para maximizar el desempeño en función de las relaciones entre líder y miembro, estructura de la tarea y el poder otorgado por el pues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NTINUO DEL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(Robert Tannembaum y Warren Schmidt, 1958, 1973 y 198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pone el estilo que puede adoptar un líder de acuerdo con su personalidad y comportamiento, sus subordinados y la situación (en un continuo de 7 formas para manejar la d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549360"/>
            <a:ext cx="66978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empus Sans ITC"/>
              </a:rPr>
              <a:t>TEORÍAS Y MODELOS DEL LIDERAZG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empus Sans ITC"/>
              </a:rPr>
              <a:t>POR CONTINGE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152280" y="-76320"/>
            <a:ext cx="609480" cy="708660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92280"/>
            <a:ext cx="79246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AMINO-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(Robert House, 1971. Basado en los trabajos de M.G. Evans, 197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lantea el estilo que puede asumir un líder (directivo, de apoyo, participativo u orientado al logro) adecuado a las características de los subordinados y condiciones de traba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RM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(Victor Vroom y Philip Yetton, 1973. Victor Vroom y Arthur Yago, 198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tablece que el estilo de liderazgo se centra en la forma en que los líderes manejan la toma de decisiones considerando la calidad, compromiso, información, estructura del problema y congruencia de la 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ITU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(Paul Hersey y Ken Blanchard, 1969 y 197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xpresa  que el estilo de liderazgo (decir, convencer, participar y delegar) corresponde  a la situación (naturaleza de la tarea y madurez de los segui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1600" y="2224080"/>
            <a:ext cx="6400800" cy="2410200"/>
          </a:xfrm>
          <a:prstGeom prst="flowChartProcess">
            <a:avLst/>
          </a:prstGeom>
          <a:gradFill rotWithShape="0">
            <a:gsLst>
              <a:gs pos="0">
                <a:srgbClr val="a2bdf8"/>
              </a:gs>
              <a:gs pos="100000">
                <a:srgbClr val="32329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25751" dir="2700000" blurRad="0" rotWithShape="0">
              <a:srgbClr val="98b0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INFLUENCIA, PODER, POLÍTICA, REDES Y NEGO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6000" y="3124080"/>
            <a:ext cx="691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pacidad para hacer que alguien tome una actitud y se comporte de determinada ma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1955880"/>
            <a:ext cx="2592360" cy="550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empus Sans ITC"/>
              </a:rPr>
              <a:t>INFLUENC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00000" y="1752480"/>
            <a:ext cx="79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misión instru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seguidor se comporta como se le pide con la finalidad de obtener una recompensa o evitar un cast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nterior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seguidor se compromete con el líder porque se siente atraído por sus valores, opiniones o imagen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seguidor imita la conducta del líder para complacerlo y ser como é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71640" y="765000"/>
            <a:ext cx="32400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80080" y="2286000"/>
            <a:ext cx="2722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suasión 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hor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sul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graci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tractivo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685800"/>
            <a:ext cx="52578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TÁCTICAS DE INFLU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9400" y="2651040"/>
            <a:ext cx="1914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cam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ali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giti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0000" y="685800"/>
            <a:ext cx="7329600" cy="103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¿CÓMO EJERCER INFLUENCIA EN LO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DEMÁ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410080"/>
            <a:ext cx="480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tivando  el cam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58400" y="2071800"/>
            <a:ext cx="592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municando ideas logrando su acep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2895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tivando que se soporten e implementen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41911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grando una nueva ru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48769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arrollando una clara conciencia de la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3581280"/>
            <a:ext cx="6705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contrando una forma efectiva de lograr result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57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500"/>
                            </p:stCondLst>
                            <p:childTnLst>
                              <p:par>
                                <p:cTn id="58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637000"/>
            <a:ext cx="25909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empus Sans ITC"/>
              </a:rPr>
              <a:t>Papel del líd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637000"/>
            <a:ext cx="2666880" cy="192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empus Sans ITC"/>
              </a:rPr>
              <a:t>Crear una visió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3800">
            <a:off x="3581280" y="2438280"/>
            <a:ext cx="1979640" cy="1706760"/>
          </a:xfrm>
          <a:custGeom>
            <a:avLst/>
            <a:gdLst>
              <a:gd name="textAreaLeft" fmla="*/ 309240 w 1979640"/>
              <a:gd name="textAreaRight" fmla="*/ 1693440 w 1979640"/>
              <a:gd name="textAreaTop" fmla="*/ 427320 h 1706760"/>
              <a:gd name="textAreaBottom" fmla="*/ 1279440 h 170676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gradFill rotWithShape="0">
            <a:gsLst>
              <a:gs pos="0">
                <a:srgbClr val="9191db"/>
              </a:gs>
              <a:gs pos="100000">
                <a:srgbClr val="6c8dd8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62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56000" y="685800"/>
            <a:ext cx="504036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empus Sans ITC"/>
              </a:rPr>
              <a:t>PODER Y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5410080"/>
            <a:ext cx="36576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 influir en los de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384400">
            <a:off x="3749760" y="3031920"/>
            <a:ext cx="1979640" cy="1706400"/>
          </a:xfrm>
          <a:custGeom>
            <a:avLst/>
            <a:gdLst>
              <a:gd name="textAreaLeft" fmla="*/ 309240 w 1979640"/>
              <a:gd name="textAreaRight" fmla="*/ 1693440 w 1979640"/>
              <a:gd name="textAreaTop" fmla="*/ 427320 h 1706400"/>
              <a:gd name="textAreaBottom" fmla="*/ 1279080 h 170640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gradFill rotWithShape="0">
            <a:gsLst>
              <a:gs pos="0">
                <a:srgbClr val="9191db"/>
              </a:gs>
              <a:gs pos="100000">
                <a:srgbClr val="6c8dd8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53760" y="577800"/>
            <a:ext cx="56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P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minio que el líder ejerce en sus segui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80160" y="2286000"/>
            <a:ext cx="3506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Moda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legít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de recompen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coerci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de refe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por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por conex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9040" y="2286000"/>
            <a:ext cx="305532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Fuentes de pode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por 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der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533520"/>
            <a:ext cx="6781680" cy="10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empus Sans ITC"/>
              </a:rPr>
              <a:t>COMPOSICIÓN DE LAS FUENTES DE PODER</a:t>
            </a:r>
            <a:r>
              <a:rPr b="1" lang="es-ES_tradnl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720" y="1828800"/>
            <a:ext cx="8381880" cy="4817160"/>
            <a:chOff x="990720" y="1828800"/>
            <a:chExt cx="8381880" cy="4817160"/>
          </a:xfrm>
        </p:grpSpPr>
        <p:sp>
          <p:nvSpPr>
            <p:cNvPr id="341" name=""/>
            <p:cNvSpPr/>
            <p:nvPr/>
          </p:nvSpPr>
          <p:spPr>
            <a:xfrm>
              <a:off x="990720" y="1970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Poder legíti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0720" y="307764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Poder de recompen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397908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Poder de coer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0720" y="492804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Poder refere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5783400"/>
              <a:ext cx="2666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Poder de peric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05520" y="1828800"/>
              <a:ext cx="3504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Derecho o autoridad para decir a los demás que hac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05520" y="3077640"/>
              <a:ext cx="39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Facultad para entregar compensa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05520" y="4026600"/>
              <a:ext cx="365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Capacidad para ejercer pres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05520" y="4897080"/>
              <a:ext cx="41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Características que atenten contra los demá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5520" y="584640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Experiencia o conocimie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2224080"/>
              <a:ext cx="1981080" cy="0"/>
            </a:xfrm>
            <a:prstGeom prst="line">
              <a:avLst/>
            </a:prstGeom>
            <a:ln w="31680">
              <a:solidFill>
                <a:srgbClr val="9dc7f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7600" y="3331440"/>
              <a:ext cx="1295280" cy="0"/>
            </a:xfrm>
            <a:prstGeom prst="line">
              <a:avLst/>
            </a:prstGeom>
            <a:ln w="31680">
              <a:solidFill>
                <a:srgbClr val="9dc7f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76720" y="4201560"/>
              <a:ext cx="1676160" cy="0"/>
            </a:xfrm>
            <a:prstGeom prst="line">
              <a:avLst/>
            </a:prstGeom>
            <a:ln w="31680">
              <a:solidFill>
                <a:srgbClr val="9dc7f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5150880"/>
              <a:ext cx="1904760" cy="0"/>
            </a:xfrm>
            <a:prstGeom prst="line">
              <a:avLst/>
            </a:prstGeom>
            <a:ln w="31680">
              <a:solidFill>
                <a:srgbClr val="9dc7f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00400" y="6021000"/>
              <a:ext cx="1752480" cy="0"/>
            </a:xfrm>
            <a:prstGeom prst="line">
              <a:avLst/>
            </a:prstGeom>
            <a:ln w="31680">
              <a:solidFill>
                <a:srgbClr val="9dc7f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12034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ceso de obtención y utilización del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Comportamiento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rma de conducirse para  relacionar intenciones con acciones y hechos con result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ff"/>
                </a:solidFill>
                <a:latin typeface="Tahoma"/>
              </a:rPr>
              <a:t>Red de conexione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Establecimiento de relaciones para socializar y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bild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ff"/>
                </a:solidFill>
                <a:latin typeface="Tahoma"/>
              </a:rPr>
              <a:t>Reciprocidad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    Determinación de obligaciones y alianzas, y su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so para alcanzar 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ff"/>
                </a:solidFill>
                <a:latin typeface="Tahoma"/>
              </a:rPr>
              <a:t>Coalicione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ercamiento y alianza  con seguidores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etidores para alcanzar los fines dese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9440" y="258840"/>
            <a:ext cx="20840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POLÍ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1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5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9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3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7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1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5" dur="500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9" dur="500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3" dur="500"/>
                                        <p:tgtEl>
                                          <p:spTgt spid="3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4000" y="2209680"/>
            <a:ext cx="856908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ocer la cultura organizacional y a los miembros poder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levar buenas relaciones, en especial con los mando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rticipar en el trabajo en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 leal con su g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anar recono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596880"/>
            <a:ext cx="6697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Directrices para desarrollar destrez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polí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68360" y="2060640"/>
            <a:ext cx="77058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l manejo de redes es importante en la carr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l conocimiento y las habilidades téc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miten llegar a la administración de 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ivel, pero las redes permiten el acceso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niveles de dec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836640"/>
            <a:ext cx="669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1916280"/>
            <a:ext cx="84247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r una evaluación de sí mismo y fíjese m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ree la venta de usted mismo en un min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arrolle su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ce entrevistas para la formación de sus re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ntenga su red de conta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907920"/>
            <a:ext cx="684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oceso de formación de re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3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4005360"/>
            <a:ext cx="77058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ceso en que dos o más partes en conflic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tan de llegar a un acue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907920"/>
            <a:ext cx="640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NEGO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3708360" y="2060640"/>
            <a:ext cx="1943280" cy="151128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00000" y="765000"/>
            <a:ext cx="655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Proceso de nego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3516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981000"/>
            <a:ext cx="710064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MANEJO DE CONFLI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2276640"/>
            <a:ext cx="7209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 de atender  y  resolver las controversias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suscitan cuando alguien no está de acuerdo y 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one a otra 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000"/>
                            </p:stCondLst>
                            <p:childTnLst>
                              <p:par>
                                <p:cTn id="7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5397000">
            <a:off x="2783520" y="2855160"/>
            <a:ext cx="1981440" cy="1147680"/>
          </a:xfrm>
          <a:prstGeom prst="triangle">
            <a:avLst>
              <a:gd name="adj" fmla="val 48389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3048120"/>
            <a:ext cx="18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empus Sans ITC"/>
              </a:rPr>
              <a:t>Vis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2565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empus Sans ITC"/>
              </a:rPr>
              <a:t>Imagen mental de un estado futuro deseable y po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9720" y="687240"/>
            <a:ext cx="71010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ESTILOS DE MANEJO DE CONFLI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669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87280" y="2276640"/>
            <a:ext cx="6796080" cy="2438280"/>
          </a:xfrm>
          <a:prstGeom prst="rect">
            <a:avLst/>
          </a:prstGeom>
          <a:gradFill rotWithShape="0">
            <a:gsLst>
              <a:gs pos="0">
                <a:srgbClr val="94b2ee"/>
              </a:gs>
              <a:gs pos="100000">
                <a:srgbClr val="4650a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a9ba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PERSPECTIVAS CONTEMPORÁNEAS DEL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66680" y="2727360"/>
            <a:ext cx="7010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o para lograr la comprensión y compromiso de los miembros de un equipo que permita alcanzar resultados óptimos de desemp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868320"/>
            <a:ext cx="60487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LIDERAZGO DE EQUI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77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77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9640" y="765000"/>
            <a:ext cx="727236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FUNCIÓN DEL LÍDER EN LA FORM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DE EQUIPOS EF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0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25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66680" y="2727360"/>
            <a:ext cx="7010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o que ofrece la dirección e inspiración necesarias para crear e instrumentar una visión, misión y estrategias para lograr y respaldar los objetivos pro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868320"/>
            <a:ext cx="60487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LIDERAZGO ESTRATÉ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42920" y="304920"/>
            <a:ext cx="676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MECÁNICA DEL LIDERAZGO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3520" y="838080"/>
            <a:ext cx="8305560" cy="5725800"/>
            <a:chOff x="533520" y="838080"/>
            <a:chExt cx="8305560" cy="5725800"/>
          </a:xfrm>
        </p:grpSpPr>
        <p:sp>
          <p:nvSpPr>
            <p:cNvPr id="393" name=""/>
            <p:cNvSpPr/>
            <p:nvPr/>
          </p:nvSpPr>
          <p:spPr>
            <a:xfrm>
              <a:off x="533520" y="838080"/>
              <a:ext cx="8305560" cy="57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Análisis del ambi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                           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Interno                                                                     Exter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Vis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Marco de las aspiraciones comunes, nivel de compromiso, moral y espírit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           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Marco de referencia que enlaza lo deseado con lo posible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MX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Formulación de la estrateg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Precisión de la ruta fundamental para el empleo de recursos que imprime unidad a las ac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                                     </a:t>
              </a:r>
              <a:r>
                <a:rPr b="0" lang="es-MX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MX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Implementación de la estrateg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Puesta en marcha de la estrategia a partir de una base de acción con cohesión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MX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MX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Competitividad estratég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Tahoma"/>
                </a:rPr>
                <a:t>Logro de los pilares de una ventaja competitiva: economía, calidad, innovación y velocidad de respues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990720"/>
              <a:ext cx="6477120" cy="76176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7400" y="1752480"/>
              <a:ext cx="5029200" cy="22860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2971800"/>
              <a:ext cx="0" cy="3049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3809880"/>
              <a:ext cx="0" cy="3049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0" y="4648320"/>
              <a:ext cx="0" cy="3045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5486400"/>
              <a:ext cx="0" cy="3049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2000" y="1981080"/>
              <a:ext cx="0" cy="3049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2133720"/>
            <a:ext cx="8137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ciones para enfrentar tiempo o estado de c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estable o crucial en que existe la amenaza de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bio decisivo  y  en el que hay una pos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ra de un resultado altamente indes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765000"/>
            <a:ext cx="684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LIDERAZGO EN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600"/>
                            </p:stCondLst>
                            <p:childTnLst>
                              <p:par>
                                <p:cTn id="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8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600"/>
                            </p:stCondLst>
                            <p:childTnLst>
                              <p:par>
                                <p:cTn id="8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600"/>
                            </p:stCondLst>
                            <p:childTnLst>
                              <p:par>
                                <p:cTn id="9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8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692280"/>
            <a:ext cx="6913800" cy="50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empus Sans ITC"/>
              </a:rPr>
              <a:t>MODELO DE EVALUACIÓN DE RIESG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55640" y="2060640"/>
            <a:ext cx="8137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tividades relacionadas con la planeación, diseño, implementación  y normalización  de  herramient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, rutinas, procesos o sistemas que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ente requerirá para desarrollar su trabajo de fo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836640"/>
            <a:ext cx="763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LIDERAZGO PARA EL CAMBIO ORGANIZ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000"/>
                            </p:stCondLst>
                            <p:childTnLst>
                              <p:par>
                                <p:cTn id="9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6920" y="620640"/>
            <a:ext cx="684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ETAPAS DEL PROCESO DEL CAMB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23880"/>
            <a:ext cx="632484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empus Sans ITC"/>
              </a:rPr>
              <a:t>CARACTERÍSTICAS DEL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mp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5800" y="549576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760" y="47340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o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1440" y="39718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fianza en uno m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9600" y="328608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gru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7160" y="252396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ti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9051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Nivel de esfuerzo elev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6386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pacidad para percibir e interpretar ideas y sent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48769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ominio del campo en que se actú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40384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guridad para enfrentar las circunsta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2004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incidencia entre las palabr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y los h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7400" y="2473200"/>
            <a:ext cx="33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reencia en lo que se h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743200"/>
            <a:ext cx="243828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91120"/>
            <a:ext cx="99036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5029200"/>
            <a:ext cx="213336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5791320"/>
            <a:ext cx="236196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2133720"/>
            <a:ext cx="259056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429000"/>
            <a:ext cx="2286000" cy="0"/>
          </a:xfrm>
          <a:prstGeom prst="line">
            <a:avLst/>
          </a:prstGeom>
          <a:ln cap="rnd" w="31680">
            <a:solidFill>
              <a:srgbClr val="9dc7f5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55640" y="1736640"/>
            <a:ext cx="81374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iderazgo de apoyo       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oque que confiere autoridad para la         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toma de decisiones y control  de l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              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quema  de apl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cada orientación al trabajo en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ma de decisiones y poder descentr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ens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620640"/>
            <a:ext cx="684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LIDERAZGO DE APOY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7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9" dur="5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11280" y="1413000"/>
            <a:ext cx="853272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iderazgo de servicio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foque que trasciende el interés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solver las necesidades de los demás,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ayudándolos a  crecer profesional 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mocional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quema  de apl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yudar a los demás a apelar a la fuerza de su espíritu y pot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anar y mantener la confianza de los dem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vir por encima del interés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aber escu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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firmar el sentido del lo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547560"/>
            <a:ext cx="698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LIDERAZGO DE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1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7" dur="5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3" dur="500"/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2120" y="2787480"/>
            <a:ext cx="75182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 de actuar que transforma una visión en realidad y motiva a las gentes a trascender sus intereses personales por el bien del gru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480" y="1295280"/>
            <a:ext cx="614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LIDERAZGO TRANSFORM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14400" y="13716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conciben como agentes de cam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n visionarios y confían en su intu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rren riesgos de manera respons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n capaces de articular los valores medulares que guían su comport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seen habilidades cognoscitivas excep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nalizan las situaciones minuciosamente antes de actu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reen en la gente y se muestran sensibles a sus 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n flexibles y están abiertos a aprender de l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260280"/>
            <a:ext cx="7272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empus Sans ITC"/>
              </a:rPr>
              <a:t>Atributos de los líderes transformaciona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22860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2666880"/>
            <a:ext cx="7467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unicarse con las personas para retroalimentarlas a manera de entrenamiento, al convertir todas sus acciones en oportunidades de mejora  para elevar su desempe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22840" y="1143000"/>
            <a:ext cx="239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CO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4000" y="2328840"/>
            <a:ext cx="7739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ocer bien a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 permeabl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ablecer una relación de apoy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ner claro que requiere moti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lsar  su mejor esfuer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centrarse en el comportamiento no en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cer que la persona esté consciente de su desemp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lear la crítica constru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valuar de manera conjun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onocer los errores y aprender de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32000" y="620640"/>
            <a:ext cx="6246720" cy="10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MARCO PARA IMPLEMENTAR EL CO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9720" y="687240"/>
            <a:ext cx="7101000" cy="99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CÓMO MEJORAR EL DESEMPEÑO 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EL MODELO DE CO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57200" y="2819520"/>
            <a:ext cx="8305920" cy="1752480"/>
            <a:chOff x="457200" y="2819520"/>
            <a:chExt cx="8305920" cy="1752480"/>
          </a:xfrm>
        </p:grpSpPr>
        <p:sp>
          <p:nvSpPr>
            <p:cNvPr id="434" name=""/>
            <p:cNvSpPr/>
            <p:nvPr/>
          </p:nvSpPr>
          <p:spPr>
            <a:xfrm>
              <a:off x="497520" y="3249720"/>
              <a:ext cx="823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scribir el           Describir el       </a:t>
              </a:r>
              <a:r>
                <a:rPr b="0" lang="es-MX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  Formalizar  un             D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desempeño          desempeño            compromiso          seguimie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actual                 deseado                de cambio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86000" y="3733920"/>
              <a:ext cx="38088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05720" y="3733920"/>
              <a:ext cx="38088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19720" y="3733920"/>
              <a:ext cx="38088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" y="2819520"/>
              <a:ext cx="8305920" cy="1752480"/>
            </a:xfrm>
            <a:prstGeom prst="rect">
              <a:avLst/>
            </a:prstGeom>
            <a:noFill/>
            <a:ln w="1908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2590920"/>
            <a:ext cx="71625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esencia basada en cualidades excepcionales que inspira y motiva a la gente para que alcance logros más allá de los que realizaría en circunstancias nor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1009800"/>
            <a:ext cx="619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empus Sans ITC"/>
              </a:rPr>
              <a:t>LIDERAZGO CARISMÁ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1752480"/>
            <a:ext cx="716256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voz griega Carisma significa ”don abundante concedido por Dios a una criatur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término fue traído a la Administración por el sociólogo alemán Max Weber, en su obra “Teoría de la organización económica y social”, publicada en el año de 1947,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ra explicar una forma de influencia no basada en sistemas de autoridad tradicionales, sino en la percepción de los seguidores de que el líder está dotado de un don divino o cualidades sobrenatu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762120"/>
            <a:ext cx="29527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empus Sans ITC"/>
              </a:rPr>
              <a:t>CARISM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600200"/>
            <a:ext cx="568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isión de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bilidades de comunicación excep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nza en sí m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vicción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acidad para inspirar conf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rientación a la acción y el 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ran energía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ase de poder fundada en las rel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rol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acidad para dele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toconfianza altamente desarrol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0000" y="457200"/>
            <a:ext cx="698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CARACTERÍSTICAS DE LOS LÍDE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CARIS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800"/>
                            </p:stCondLst>
                            <p:childTnLst>
                              <p:par>
                                <p:cTn id="11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20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7800"/>
                            </p:stCondLst>
                            <p:childTnLst>
                              <p:par>
                                <p:cTn id="121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9300"/>
                            </p:stCondLst>
                            <p:childTnLst>
                              <p:par>
                                <p:cTn id="121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2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2300"/>
                            </p:stCondLst>
                            <p:childTnLst>
                              <p:par>
                                <p:cTn id="122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3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300"/>
                            </p:stCondLst>
                            <p:childTnLst>
                              <p:par>
                                <p:cTn id="124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0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8300"/>
                            </p:stCondLst>
                            <p:childTnLst>
                              <p:par>
                                <p:cTn id="125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9800"/>
                            </p:stCondLst>
                            <p:childTnLst>
                              <p:par>
                                <p:cTn id="125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500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03280" y="836640"/>
            <a:ext cx="583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empus Sans ITC"/>
              </a:rPr>
              <a:t>MARCO DE REFER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62120" y="2127240"/>
            <a:ext cx="8076960" cy="3279240"/>
            <a:chOff x="762120" y="2127240"/>
            <a:chExt cx="8076960" cy="3279240"/>
          </a:xfrm>
        </p:grpSpPr>
        <p:sp>
          <p:nvSpPr>
            <p:cNvPr id="185" name=""/>
            <p:cNvSpPr/>
            <p:nvPr/>
          </p:nvSpPr>
          <p:spPr>
            <a:xfrm>
              <a:off x="6781680" y="3336840"/>
              <a:ext cx="205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Metas  y desempeño de los seguido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35812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Factores ambient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895480" y="3200400"/>
              <a:ext cx="228600" cy="1600200"/>
              <a:chOff x="2895480" y="3200400"/>
              <a:chExt cx="228600" cy="1600200"/>
            </a:xfrm>
          </p:grpSpPr>
          <p:sp>
            <p:nvSpPr>
              <p:cNvPr id="188" name=""/>
              <p:cNvSpPr/>
              <p:nvPr/>
            </p:nvSpPr>
            <p:spPr>
              <a:xfrm>
                <a:off x="2895480" y="4000680"/>
                <a:ext cx="228600" cy="0"/>
              </a:xfrm>
              <a:prstGeom prst="line">
                <a:avLst/>
              </a:prstGeom>
              <a:ln w="38160">
                <a:solidFill>
                  <a:srgbClr val="9dc7f5"/>
                </a:solidFill>
                <a:miter/>
                <a:tail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480" y="3200400"/>
                <a:ext cx="0" cy="1600200"/>
              </a:xfrm>
              <a:prstGeom prst="line">
                <a:avLst/>
              </a:prstGeom>
              <a:ln w="38160">
                <a:solidFill>
                  <a:srgbClr val="9dc7f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019920" y="3886200"/>
              <a:ext cx="685800" cy="0"/>
            </a:xfrm>
            <a:prstGeom prst="line">
              <a:avLst/>
            </a:prstGeom>
            <a:ln w="38160">
              <a:solidFill>
                <a:srgbClr val="9dc7f5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2127240"/>
              <a:ext cx="2895480" cy="32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1.  Direct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2.  Apoy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3.  Participat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4.  Logro de los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comportamientos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Tahoma"/>
                </a:rPr>
                <a:t>del líd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3013200"/>
            <a:ext cx="7105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fluencia que los líderes ejercen en sus seguidores al respaldar sus acciones en un comportamiento ético y un razonamiento m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42920" y="692280"/>
            <a:ext cx="684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LIDERAZGO BASADO EN LOS VAL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8680" y="411120"/>
            <a:ext cx="452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RAZONAMIENTO 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135576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NIVELES DE RAZONAMIENTO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convencional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rtamiento moral de una persona orientado a satisfacer un interés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rtamiento moral destinado a obtener la aprobación de los de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s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rtamiento moral basado en principios universales abstractos que incluso trascienden las leyes de una soc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8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1557360"/>
            <a:ext cx="7620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99ccff"/>
                </a:solidFill>
                <a:latin typeface="Tahoma"/>
              </a:rPr>
              <a:t>Espiritu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término espiritualidad se deriva de espíritu, en latín spiritus, que significa “soplo”. En esencia, pues, espíritu es lo que nos habita mientras vivimos y respiramos; es la fuerza vi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estra espiritualidad es la esencia de lo que somos. Define el yo interno, independientemente del cuerpo, pero incluye el yo físico e intelect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espiritualidad es también la cualidad de ser espiritual, de reconocer lo intangible, la fuerza que anima la vida en el yo y en todos los sere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 un estado de íntima relación de valores y moralidad superiores con el yo in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9640" y="349200"/>
            <a:ext cx="741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empus Sans ITC"/>
              </a:rPr>
              <a:t>EL LIDERAZGO DESDE UNA PERSPECTIVA ESPIRITU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9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3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7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1" dur="2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5" dur="20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6200" y="1716120"/>
            <a:ext cx="84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ocerse a sí mismo              Todo proceso de crecimiento espiritual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rende  el principio de autoconcienci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uar con autenticidad            Ser uno mismo, actuar conforme a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y congruencia                          y sostenerlos en todo mo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spetar las creencias              Crear un clima de confianza y franqueza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y opiniones de los demás         fomentar la aceptación de ideas distinta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propi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fiar tanto como se               Confiar en uno mismo, lo que signific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eda                                     reconocer en que hay un poder sup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vida, que uno no está só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ntener una práctica              Meditar y orar para fortalecer el espíri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piri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333360"/>
            <a:ext cx="6985080" cy="93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empus Sans ITC"/>
              </a:rPr>
              <a:t>NORMAS PARA DIRIGIR DESDE UNA PERSPECTIVA ESPIRITU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276720" y="1905120"/>
            <a:ext cx="609480" cy="3886200"/>
            <a:chOff x="3276720" y="1905120"/>
            <a:chExt cx="609480" cy="3886200"/>
          </a:xfrm>
        </p:grpSpPr>
        <p:sp>
          <p:nvSpPr>
            <p:cNvPr id="461" name=""/>
            <p:cNvSpPr/>
            <p:nvPr/>
          </p:nvSpPr>
          <p:spPr>
            <a:xfrm>
              <a:off x="3276720" y="1905120"/>
              <a:ext cx="60948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720" y="2743200"/>
              <a:ext cx="60948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3581280"/>
              <a:ext cx="60948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76720" y="4648320"/>
              <a:ext cx="60948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6720" y="5791320"/>
              <a:ext cx="60948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-152280" y="-152280"/>
            <a:ext cx="609480" cy="7238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2020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1447920"/>
            <a:ext cx="8153280" cy="38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ASÍ PU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EL LIDERAZGO PUEDE ADOPTAR MUCHAS FORMAS, SOPORTARSE CON ÓPTICAS DISTINT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TOMAR DIFERENTES CAU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PRESENTAR MUCHAS FACET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PERO....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0" y="5805360"/>
            <a:ext cx="9144000" cy="7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EL VERDADERO LIDERAZGO</a:t>
            </a:r>
            <a:r>
              <a:rPr b="1" lang="es-MX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empus Sans ITC"/>
              </a:rPr>
              <a:t>ESTÁ EN EL CORAZ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765000"/>
            <a:ext cx="7062840" cy="924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empus Sans ITC"/>
              </a:rPr>
              <a:t>ELEMENTOS CLAVE PARA DEFINI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s-ES" sz="3000" spc="-1" strike="noStrike">
                <a:solidFill>
                  <a:srgbClr val="ffffff"/>
                </a:solidFill>
                <a:latin typeface="Tempus Sans ITC"/>
              </a:rPr>
              <a:t>EL LIDERAZ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64000" y="2590920"/>
            <a:ext cx="1998360" cy="990360"/>
            <a:chOff x="3564000" y="2590920"/>
            <a:chExt cx="1998360" cy="990360"/>
          </a:xfrm>
        </p:grpSpPr>
        <p:sp>
          <p:nvSpPr>
            <p:cNvPr id="195" name=""/>
            <p:cNvSpPr/>
            <p:nvPr/>
          </p:nvSpPr>
          <p:spPr>
            <a:xfrm>
              <a:off x="3564000" y="2590920"/>
              <a:ext cx="1998360" cy="99036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17800" y="2797200"/>
              <a:ext cx="147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Liderazg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0" y="4495680"/>
            <a:ext cx="1981080" cy="990720"/>
            <a:chOff x="0" y="4495680"/>
            <a:chExt cx="1981080" cy="990720"/>
          </a:xfrm>
        </p:grpSpPr>
        <p:sp>
          <p:nvSpPr>
            <p:cNvPr id="198" name=""/>
            <p:cNvSpPr/>
            <p:nvPr/>
          </p:nvSpPr>
          <p:spPr>
            <a:xfrm>
              <a:off x="0" y="4495680"/>
              <a:ext cx="1981080" cy="99072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8400" y="4792680"/>
              <a:ext cx="1479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Influencia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05120" y="4495680"/>
            <a:ext cx="1981080" cy="990720"/>
            <a:chOff x="1905120" y="4495680"/>
            <a:chExt cx="1981080" cy="990720"/>
          </a:xfrm>
        </p:grpSpPr>
        <p:sp>
          <p:nvSpPr>
            <p:cNvPr id="201" name=""/>
            <p:cNvSpPr/>
            <p:nvPr/>
          </p:nvSpPr>
          <p:spPr>
            <a:xfrm>
              <a:off x="1905120" y="4495680"/>
              <a:ext cx="1981080" cy="99072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9720" y="4792680"/>
              <a:ext cx="186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Interrelació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733920" y="4572000"/>
            <a:ext cx="1981080" cy="990720"/>
            <a:chOff x="3733920" y="4572000"/>
            <a:chExt cx="1981080" cy="990720"/>
          </a:xfrm>
        </p:grpSpPr>
        <p:sp>
          <p:nvSpPr>
            <p:cNvPr id="204" name=""/>
            <p:cNvSpPr/>
            <p:nvPr/>
          </p:nvSpPr>
          <p:spPr>
            <a:xfrm>
              <a:off x="3733920" y="4572000"/>
              <a:ext cx="1981080" cy="99072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5480" y="4792680"/>
              <a:ext cx="1389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Person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86400" y="4572000"/>
            <a:ext cx="1981080" cy="990720"/>
            <a:chOff x="5486400" y="4572000"/>
            <a:chExt cx="1981080" cy="990720"/>
          </a:xfrm>
        </p:grpSpPr>
        <p:sp>
          <p:nvSpPr>
            <p:cNvPr id="207" name=""/>
            <p:cNvSpPr/>
            <p:nvPr/>
          </p:nvSpPr>
          <p:spPr>
            <a:xfrm>
              <a:off x="5486400" y="4572000"/>
              <a:ext cx="1981080" cy="99072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87000" y="4778280"/>
              <a:ext cx="141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Objetiv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62920" y="4572000"/>
            <a:ext cx="1981080" cy="990720"/>
            <a:chOff x="7162920" y="4572000"/>
            <a:chExt cx="1981080" cy="990720"/>
          </a:xfrm>
        </p:grpSpPr>
        <p:sp>
          <p:nvSpPr>
            <p:cNvPr id="210" name=""/>
            <p:cNvSpPr/>
            <p:nvPr/>
          </p:nvSpPr>
          <p:spPr>
            <a:xfrm>
              <a:off x="7162920" y="4572000"/>
              <a:ext cx="1981080" cy="990720"/>
            </a:xfrm>
            <a:prstGeom prst="ellipse">
              <a:avLst/>
            </a:prstGeom>
            <a:gradFill rotWithShape="0">
              <a:gsLst>
                <a:gs pos="0">
                  <a:srgbClr val="3b3ba9"/>
                </a:gs>
                <a:gs pos="100000">
                  <a:srgbClr val="2121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7600" y="4778280"/>
              <a:ext cx="118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Tahoma"/>
                </a:rPr>
                <a:t>Cambi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4360" y="2819520"/>
            <a:ext cx="7920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binación de rasgos, habilidades, destrez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 comportamientos  a  los  que  recurren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líderes al interactuar con sus seguid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981000"/>
            <a:ext cx="604836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empus Sans ITC"/>
              </a:rPr>
              <a:t>ESTILOS DE LIDERAZ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81040" y="196920"/>
            <a:ext cx="6943680" cy="103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</a:rPr>
              <a:t>PRINCIPALES ESTUDIOS SOBRE LOS  ESTILOS DE LIDERAZ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508040"/>
            <a:ext cx="8004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Universidad Estatal de Iow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fectuados por Kurt Lewin y un grupo de colaboradores, cuyos resultados publicados en 1939, identificaron dos estilos de liderazgo: autocrático y democr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32280"/>
            <a:ext cx="8004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Universidad de Michig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irigidos por Rensis Likert,  y que coincidieron en señalar, en el año de 1961, dos estilos de liderazgo: el orientado al trabajo y el orientado a las person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403880"/>
            <a:ext cx="80773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empus Sans ITC"/>
              </a:rPr>
              <a:t>Universidad de Oh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dos por el Consejo de Investigación de Gestión de Personal, bajo la dirección de Ralph Stodgill, dados a conocer en 1957, que presentan cuatro estilos de liderazgo en función de su estructura y consideración del pers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4920" y="-152280"/>
            <a:ext cx="609840" cy="7238880"/>
          </a:xfrm>
          <a:prstGeom prst="rect">
            <a:avLst/>
          </a:prstGeom>
          <a:gradFill rotWithShape="0">
            <a:gsLst>
              <a:gs pos="0">
                <a:srgbClr val="9bcbf7"/>
              </a:gs>
              <a:gs pos="100000">
                <a:srgbClr val="272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20:01:44Z</dcterms:created>
  <dc:creator>Enrique Benjamín Franklin F.</dc:creator>
  <dc:description/>
  <dc:language>en-US</dc:language>
  <cp:lastModifiedBy>ucaciag</cp:lastModifiedBy>
  <dcterms:modified xsi:type="dcterms:W3CDTF">2006-10-25T17:15:02Z</dcterms:modified>
  <cp:revision>195</cp:revision>
  <dc:subject/>
  <dc:title>Liderazgo</dc:title>
</cp:coreProperties>
</file>