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8E2-44E3-4DDD-BB84-226EF27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4D3-80F6-4672-85A2-AD9AFB0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3A0-A4B0-47BD-8F82-CF274303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D63-BC76-4730-A2CC-CE067776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A49-DC28-4452-AE2C-311E2422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E09-6026-49EB-90B4-ED4F5CF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472-405E-4318-8A8D-A49F9F9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751-4CDC-44FB-8F0F-2ADD908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05-F69A-420D-8640-0BF596EC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872-CEE1-458F-A7CF-BD3D0B9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B4E-3320-4AE6-886A-347573B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D55-934B-4310-B559-0CBB1EA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0C6B42-60BE-4A7E-89CD-C76F53B37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564280"/>
            <a:ext cx="73900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Es mejor quemarse que apagarse lentam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Kurt D. Cobain (Nirv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H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1844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2060640"/>
            <a:ext cx="612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789360"/>
            <a:ext cx="3744720" cy="237636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ambio l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Las personas tienen tiempo sufic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para cambi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l cambio no está planeado con cl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al princi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e busca mucha participación d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person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e intenta reducir toda resis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3789360"/>
            <a:ext cx="3889440" cy="237636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ambio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Las personas tienen poco tiempo 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ambi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l cambio está planeado con cl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e busca menor participación d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e intenta superar toda resis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56000" y="206064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206064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907920"/>
            <a:ext cx="547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inuo d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59280" y="1413000"/>
            <a:ext cx="302544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impuls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2924280"/>
            <a:ext cx="302544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estabiliz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365720"/>
            <a:ext cx="302544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restric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4210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42100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24210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413000"/>
            <a:ext cx="187308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13000"/>
            <a:ext cx="1944720" cy="38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vale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708360" y="3860280"/>
            <a:ext cx="18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27640" y="3860280"/>
            <a:ext cx="14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76720" y="3860280"/>
            <a:ext cx="18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924280"/>
            <a:ext cx="187308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4365720"/>
            <a:ext cx="180000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1916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33577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916280"/>
            <a:ext cx="18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84000" y="33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33360"/>
            <a:ext cx="7416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erzas del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4000" y="2349360"/>
            <a:ext cx="4753080" cy="316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1c17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Asamblea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nsejo dir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ilo de administ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Fuerza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ultura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907920"/>
            <a:ext cx="4681440" cy="1152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uerzas inter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7280" y="2276640"/>
            <a:ext cx="6697800" cy="331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mbiente externo, conjunto de fuerzas y condi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ternas a la organización que ejercen poder re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tencial en su desemp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mbiente de tarea, fuerzas con características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ectan a la organización de forma inmedi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mbiente general, fuerzas que inciden de man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abitual en el ambiente externo y de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907920"/>
            <a:ext cx="6624720" cy="1152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mbiente de las fuerzas exter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557360"/>
            <a:ext cx="7129440" cy="4968720"/>
          </a:xfrm>
          <a:prstGeom prst="rect">
            <a:avLst/>
          </a:prstGeom>
          <a:gradFill rotWithShape="0">
            <a:gsLst>
              <a:gs pos="0">
                <a:srgbClr val="99995c"/>
              </a:gs>
              <a:gs pos="50000">
                <a:srgbClr val="ffff99"/>
              </a:gs>
              <a:gs pos="100000">
                <a:srgbClr val="99995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Tecnológico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 innovación tecnológica, cambios en los procesos productiv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y en la gestión organiz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Económico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ciclos económicos e industriales, cambios estructurales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oducto interno bruto, inversión extranjera direc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Político-legal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marco legal, gasto público, reglamentación inter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Socio-cultural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demografía, cultura, nivel socio-económico, valor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ociales, grupos de referencia y convivencia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Global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ambiente, dimensión cultural, relaciones de negoci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Clientes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interés, naturaleza, ubicación, poder adqui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Competidores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rivalidad, barreras de entrada, sustitu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Proveedores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número, capacidad, mercado, convenios, trata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Reguladores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organismos, grupos de interés, inversión, infraestructura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Socios estratégicos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formas de sociedad estratégica, participación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3366"/>
                </a:solidFill>
                <a:latin typeface="Verdana"/>
              </a:rPr>
              <a:t>Fuerza laboral</a:t>
            </a:r>
            <a:r>
              <a:rPr b="1" lang="en-US" sz="1300" spc="-1" strike="noStrike">
                <a:solidFill>
                  <a:srgbClr val="993366"/>
                </a:solidFill>
                <a:latin typeface="Verdana"/>
              </a:rPr>
              <a:t>,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oferta y demanda, filiación, sindica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0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Áreas de influencia de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uerzas exter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00720" cy="518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33336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CESO DE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19640" y="1054080"/>
            <a:ext cx="2160360" cy="934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ergí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forma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1511280" cy="720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6920" y="3502080"/>
            <a:ext cx="1657080" cy="718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6920" y="4581360"/>
            <a:ext cx="1657080" cy="720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8920" y="2421000"/>
            <a:ext cx="1657440" cy="7207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421000"/>
            <a:ext cx="1727280" cy="7207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6920" y="5662440"/>
            <a:ext cx="1657080" cy="719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Seguimiento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0560" y="2781360"/>
            <a:ext cx="6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1280" y="2781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198900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14172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422100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530208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581360"/>
            <a:ext cx="1727280" cy="7207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4581360"/>
            <a:ext cx="1657440" cy="7207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o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0560" y="49417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941720"/>
            <a:ext cx="5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502080"/>
            <a:ext cx="1727280" cy="7189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8920" y="3502080"/>
            <a:ext cx="1657440" cy="718920"/>
          </a:xfrm>
          <a:prstGeom prst="rect">
            <a:avLst/>
          </a:prstGeom>
          <a:solidFill>
            <a:srgbClr val="ffda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0560" y="386244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3862440"/>
            <a:ext cx="5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602136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42920" y="6021360"/>
            <a:ext cx="2664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781360"/>
            <a:ext cx="35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42560" y="2781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78136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54920" y="278136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042560" y="38624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96360" y="3862440"/>
            <a:ext cx="35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42560" y="4941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941720"/>
            <a:ext cx="35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60213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Retroali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60213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Retroali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18900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GESTIÓN DE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852640"/>
            <a:ext cx="7848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dministración del camb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5229360"/>
            <a:ext cx="44658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rique Benjamí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Frankli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2205000"/>
            <a:ext cx="6269040" cy="36003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173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laneación y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Hacer frente a la resistencia al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Evaluación de resultado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907920"/>
            <a:ext cx="6264360" cy="100836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l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2852640"/>
            <a:ext cx="2592360" cy="19447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laneació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del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549360"/>
            <a:ext cx="3024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484280"/>
            <a:ext cx="3024360" cy="7923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Gene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de apoy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2492280"/>
            <a:ext cx="3024360" cy="79236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3500280"/>
            <a:ext cx="3024360" cy="792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5" idx="3"/>
            <a:endCxn id="146" idx="1"/>
          </p:cNvCxnSpPr>
          <p:nvPr/>
        </p:nvCxnSpPr>
        <p:spPr>
          <a:xfrm flipV="1">
            <a:off x="3276360" y="945360"/>
            <a:ext cx="1656360" cy="288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1" name=""/>
          <p:cNvCxnSpPr>
            <a:stCxn id="145" idx="3"/>
            <a:endCxn id="149" idx="1"/>
          </p:cNvCxnSpPr>
          <p:nvPr/>
        </p:nvCxnSpPr>
        <p:spPr>
          <a:xfrm>
            <a:off x="3276360" y="3825360"/>
            <a:ext cx="1656360" cy="7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2" name=""/>
          <p:cNvCxnSpPr>
            <a:stCxn id="145" idx="3"/>
            <a:endCxn id="147" idx="1"/>
          </p:cNvCxnSpPr>
          <p:nvPr/>
        </p:nvCxnSpPr>
        <p:spPr>
          <a:xfrm flipV="1">
            <a:off x="3276360" y="1880640"/>
            <a:ext cx="1656360" cy="1945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3" name=""/>
          <p:cNvCxnSpPr>
            <a:stCxn id="145" idx="3"/>
            <a:endCxn id="148" idx="1"/>
          </p:cNvCxnSpPr>
          <p:nvPr/>
        </p:nvCxnSpPr>
        <p:spPr>
          <a:xfrm flipV="1">
            <a:off x="3276360" y="2888640"/>
            <a:ext cx="1656360" cy="93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4" name=""/>
          <p:cNvSpPr/>
          <p:nvPr/>
        </p:nvSpPr>
        <p:spPr>
          <a:xfrm>
            <a:off x="4932360" y="4581360"/>
            <a:ext cx="3024360" cy="720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589720"/>
            <a:ext cx="3024360" cy="71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3"/>
            <a:endCxn id="154" idx="1"/>
          </p:cNvCxnSpPr>
          <p:nvPr/>
        </p:nvCxnSpPr>
        <p:spPr>
          <a:xfrm>
            <a:off x="3276360" y="3825720"/>
            <a:ext cx="1656360" cy="111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>
            <a:stCxn id="145" idx="3"/>
            <a:endCxn id="155" idx="1"/>
          </p:cNvCxnSpPr>
          <p:nvPr/>
        </p:nvCxnSpPr>
        <p:spPr>
          <a:xfrm>
            <a:off x="3276360" y="3825360"/>
            <a:ext cx="1656360" cy="2125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p:transition spd="med">
    <p:blinds dir="ver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549360"/>
            <a:ext cx="792000" cy="575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49360"/>
            <a:ext cx="4464000" cy="86364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773360"/>
            <a:ext cx="4464000" cy="8636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DES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97360"/>
            <a:ext cx="4462200" cy="863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FALTA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221000"/>
            <a:ext cx="4464000" cy="86364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FALTA DE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5445000"/>
            <a:ext cx="4464000" cy="863640"/>
          </a:xfrm>
          <a:prstGeom prst="rect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CONSECUENCIAS ANTICIPAD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549360"/>
            <a:ext cx="503280" cy="5759280"/>
          </a:xfrm>
          <a:custGeom>
            <a:avLst/>
            <a:gdLst>
              <a:gd name="textAreaLeft" fmla="*/ 0 w 503280"/>
              <a:gd name="textAreaRight" fmla="*/ 181800 w 503280"/>
              <a:gd name="textAreaTop" fmla="*/ 150120 h 5759280"/>
              <a:gd name="textAreaBottom" fmla="*/ 5609160 h 57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63640" y="62064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TIPOS DE RESISTENCIA A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773360"/>
            <a:ext cx="5329080" cy="1439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reses personales: deseo de no perder las cond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onquist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Tiempo requerido para adaptarse a los camb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fuerzo extra requerido para volver aprender las co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ostos económicos del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uestionamiento de la viabilidad técnica del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3213000"/>
            <a:ext cx="5329080" cy="15112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Miedo a lo descono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Problema para entender el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casa tolerancia al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Antipatía por el agente de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Falta de confianza en otras 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Necesidad de seguridad ín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eseo de mantener el status qu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4724280"/>
            <a:ext cx="5329080" cy="1225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Alianzas pol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Valores sociales cont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Visión estrecha y conserv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reses af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eseo de retener la actual compañ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773360"/>
            <a:ext cx="187164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3213000"/>
            <a:ext cx="187164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SIC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724280"/>
            <a:ext cx="1871640" cy="122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S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SOCI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82560" y="1123920"/>
            <a:ext cx="8191440" cy="5564160"/>
            <a:chOff x="682560" y="1123920"/>
            <a:chExt cx="8191440" cy="5564160"/>
          </a:xfrm>
        </p:grpSpPr>
        <p:sp>
          <p:nvSpPr>
            <p:cNvPr id="173" name=""/>
            <p:cNvSpPr/>
            <p:nvPr/>
          </p:nvSpPr>
          <p:spPr>
            <a:xfrm>
              <a:off x="920520" y="1319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8400" y="1352520"/>
              <a:ext cx="4611600" cy="44604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98320" y="1450800"/>
              <a:ext cx="4613400" cy="447840"/>
            </a:xfrm>
            <a:prstGeom prst="rect">
              <a:avLst/>
            </a:prstGeom>
            <a:solidFill>
              <a:srgbClr val="fe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8360" y="151776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ORGANIZAC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33840" y="1517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09440" y="2394000"/>
              <a:ext cx="1647720" cy="2843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1160" y="2494080"/>
              <a:ext cx="1645920" cy="2842920"/>
            </a:xfrm>
            <a:prstGeom prst="rect">
              <a:avLst/>
            </a:prstGeom>
            <a:solidFill>
              <a:srgbClr val="ffad5b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39680" y="2576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62400" y="2394000"/>
              <a:ext cx="1646280" cy="2843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62680" y="2494080"/>
              <a:ext cx="1647720" cy="284292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91200" y="2576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0480" y="2692440"/>
              <a:ext cx="903600" cy="46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92200" y="2790720"/>
              <a:ext cx="901800" cy="46368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5080" y="287820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Estrateg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4880" y="2857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8000" y="2692440"/>
              <a:ext cx="1052640" cy="46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9720" y="2790720"/>
              <a:ext cx="1050840" cy="46368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07880" y="2801880"/>
              <a:ext cx="767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upuestos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35320" y="3435120"/>
              <a:ext cx="1050840" cy="61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5240" y="3535200"/>
              <a:ext cx="1052280" cy="61128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64840" y="3584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0320" y="37926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empeñ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88720" y="3733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64840" y="38988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8000" y="4476600"/>
              <a:ext cx="1052640" cy="4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9720" y="4576680"/>
              <a:ext cx="1050840" cy="46188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9320" y="4707000"/>
              <a:ext cx="826560" cy="33516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las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uego tácit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3000" y="4641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90480" y="4476600"/>
              <a:ext cx="903600" cy="4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92200" y="4576680"/>
              <a:ext cx="901800" cy="461880"/>
            </a:xfrm>
            <a:prstGeom prst="rect">
              <a:avLst/>
            </a:prstGeom>
            <a:solidFill>
              <a:srgbClr val="ffab5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5800" y="4707000"/>
              <a:ext cx="49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320" y="4641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0000" y="3435120"/>
              <a:ext cx="1339920" cy="74484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1720" y="3535200"/>
              <a:ext cx="1339920" cy="74304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30520" y="3566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1240" y="378288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2000" y="3782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7880" y="3286080"/>
              <a:ext cx="1339920" cy="74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7800" y="3386160"/>
              <a:ext cx="1339920" cy="74448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51480" y="3564000"/>
              <a:ext cx="1591920" cy="19836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COMPORTA</a:t>
              </a: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MIEN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29920" y="3419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31280" y="3868560"/>
              <a:ext cx="915120" cy="198360"/>
            </a:xfrm>
            <a:prstGeom prst="rect">
              <a:avLst/>
            </a:pr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TÓRIC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0040" y="3816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803240" y="2097000"/>
              <a:ext cx="249120" cy="397080"/>
              <a:chOff x="1803240" y="2097000"/>
              <a:chExt cx="249120" cy="397080"/>
            </a:xfrm>
          </p:grpSpPr>
          <p:sp>
            <p:nvSpPr>
              <p:cNvPr id="217" name=""/>
              <p:cNvSpPr/>
              <p:nvPr/>
            </p:nvSpPr>
            <p:spPr>
              <a:xfrm>
                <a:off x="1903320" y="2097000"/>
                <a:ext cx="149040" cy="29700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03240" y="2195280"/>
                <a:ext cx="149040" cy="298800"/>
              </a:xfrm>
              <a:custGeom>
                <a:avLst/>
                <a:gdLst/>
                <a:ahLst/>
                <a:rect l="l" t="t" r="r" b="b"/>
                <a:pathLst>
                  <a:path w="94" h="188">
                    <a:moveTo>
                      <a:pt x="50" y="0"/>
                    </a:moveTo>
                    <a:lnTo>
                      <a:pt x="94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4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482720" y="2097000"/>
              <a:ext cx="247680" cy="397080"/>
              <a:chOff x="4482720" y="2097000"/>
              <a:chExt cx="247680" cy="397080"/>
            </a:xfrm>
          </p:grpSpPr>
          <p:sp>
            <p:nvSpPr>
              <p:cNvPr id="220" name=""/>
              <p:cNvSpPr/>
              <p:nvPr/>
            </p:nvSpPr>
            <p:spPr>
              <a:xfrm>
                <a:off x="4581360" y="2097000"/>
                <a:ext cx="149040" cy="29700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82720" y="2195280"/>
                <a:ext cx="147600" cy="29880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50" y="0"/>
                    </a:moveTo>
                    <a:lnTo>
                      <a:pt x="93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3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607160" y="2097000"/>
              <a:ext cx="247680" cy="397080"/>
              <a:chOff x="7607160" y="2097000"/>
              <a:chExt cx="247680" cy="39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7705440" y="2097000"/>
                <a:ext cx="149400" cy="29700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2195280"/>
                <a:ext cx="149040" cy="298800"/>
              </a:xfrm>
              <a:custGeom>
                <a:avLst/>
                <a:gdLst/>
                <a:ahLst/>
                <a:rect l="l" t="t" r="r" b="b"/>
                <a:pathLst>
                  <a:path w="94" h="188">
                    <a:moveTo>
                      <a:pt x="50" y="0"/>
                    </a:moveTo>
                    <a:lnTo>
                      <a:pt x="94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4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04880" y="1798560"/>
              <a:ext cx="6557760" cy="314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06240" y="1898640"/>
              <a:ext cx="6556320" cy="314280"/>
            </a:xfrm>
            <a:prstGeom prst="rect">
              <a:avLst/>
            </a:prstGeom>
            <a:solidFill>
              <a:srgbClr val="fe7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6200" y="19479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US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4116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9048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620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63000" y="1947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9880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620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33000" y="194796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7080" y="19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267240" y="3435120"/>
              <a:ext cx="546120" cy="695520"/>
              <a:chOff x="6267240" y="3435120"/>
              <a:chExt cx="546120" cy="695520"/>
            </a:xfrm>
          </p:grpSpPr>
          <p:sp>
            <p:nvSpPr>
              <p:cNvPr id="237" name=""/>
              <p:cNvSpPr/>
              <p:nvPr/>
            </p:nvSpPr>
            <p:spPr>
              <a:xfrm>
                <a:off x="6367320" y="3435120"/>
                <a:ext cx="446040" cy="5954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4"/>
                    </a:lnTo>
                    <a:lnTo>
                      <a:pt x="0" y="94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67240" y="3535200"/>
                <a:ext cx="446040" cy="5954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3" y="0"/>
                    </a:moveTo>
                    <a:lnTo>
                      <a:pt x="213" y="93"/>
                    </a:lnTo>
                    <a:lnTo>
                      <a:pt x="0" y="93"/>
                    </a:lnTo>
                    <a:lnTo>
                      <a:pt x="0" y="281"/>
                    </a:lnTo>
                    <a:lnTo>
                      <a:pt x="213" y="281"/>
                    </a:lnTo>
                    <a:lnTo>
                      <a:pt x="213" y="375"/>
                    </a:lnTo>
                    <a:lnTo>
                      <a:pt x="281" y="187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47720" y="3435120"/>
              <a:ext cx="546120" cy="695520"/>
              <a:chOff x="2547720" y="3435120"/>
              <a:chExt cx="546120" cy="695520"/>
            </a:xfrm>
          </p:grpSpPr>
          <p:sp>
            <p:nvSpPr>
              <p:cNvPr id="240" name=""/>
              <p:cNvSpPr/>
              <p:nvPr/>
            </p:nvSpPr>
            <p:spPr>
              <a:xfrm>
                <a:off x="2647800" y="3435120"/>
                <a:ext cx="446040" cy="5954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4"/>
                    </a:lnTo>
                    <a:lnTo>
                      <a:pt x="0" y="94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47720" y="3535200"/>
                <a:ext cx="446040" cy="5954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3"/>
                    </a:lnTo>
                    <a:lnTo>
                      <a:pt x="0" y="93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7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604880" y="5850000"/>
              <a:ext cx="6557760" cy="314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06240" y="5948280"/>
              <a:ext cx="6556320" cy="314280"/>
            </a:xfrm>
            <a:prstGeom prst="rect">
              <a:avLst/>
            </a:prstGeom>
            <a:solidFill>
              <a:srgbClr val="fe7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8960" y="5981760"/>
              <a:ext cx="223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OALIMEN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30560" y="5981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357200" y="5402160"/>
              <a:ext cx="695160" cy="546120"/>
              <a:chOff x="1357200" y="5402160"/>
              <a:chExt cx="695160" cy="54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1456920" y="5402160"/>
                <a:ext cx="595440" cy="44784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3" y="73"/>
                    </a:lnTo>
                    <a:lnTo>
                      <a:pt x="93" y="282"/>
                    </a:lnTo>
                    <a:lnTo>
                      <a:pt x="281" y="282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57200" y="5502240"/>
                <a:ext cx="595080" cy="446040"/>
              </a:xfrm>
              <a:custGeom>
                <a:avLst/>
                <a:gdLst/>
                <a:ahLst/>
                <a:rect l="l" t="t" r="r" b="b"/>
                <a:pathLst>
                  <a:path w="375" h="281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8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607160" y="5402160"/>
              <a:ext cx="693720" cy="546120"/>
              <a:chOff x="7607160" y="5402160"/>
              <a:chExt cx="693720" cy="546120"/>
            </a:xfrm>
          </p:grpSpPr>
          <p:sp>
            <p:nvSpPr>
              <p:cNvPr id="250" name=""/>
              <p:cNvSpPr/>
              <p:nvPr/>
            </p:nvSpPr>
            <p:spPr>
              <a:xfrm>
                <a:off x="7705440" y="5402160"/>
                <a:ext cx="595440" cy="44784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2"/>
                    </a:lnTo>
                    <a:lnTo>
                      <a:pt x="282" y="282"/>
                    </a:lnTo>
                    <a:lnTo>
                      <a:pt x="282" y="73"/>
                    </a:lnTo>
                    <a:lnTo>
                      <a:pt x="375" y="73"/>
                    </a:lnTo>
                    <a:lnTo>
                      <a:pt x="188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07160" y="5502240"/>
                <a:ext cx="595080" cy="446040"/>
              </a:xfrm>
              <a:custGeom>
                <a:avLst/>
                <a:gdLst/>
                <a:ahLst/>
                <a:rect l="l" t="t" r="r" b="b"/>
                <a:pathLst>
                  <a:path w="375" h="281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482720" y="5402160"/>
              <a:ext cx="693720" cy="546120"/>
              <a:chOff x="4482720" y="5402160"/>
              <a:chExt cx="693720" cy="546120"/>
            </a:xfrm>
          </p:grpSpPr>
          <p:sp>
            <p:nvSpPr>
              <p:cNvPr id="253" name=""/>
              <p:cNvSpPr/>
              <p:nvPr/>
            </p:nvSpPr>
            <p:spPr>
              <a:xfrm>
                <a:off x="4581360" y="5402160"/>
                <a:ext cx="595080" cy="44784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2"/>
                    </a:lnTo>
                    <a:lnTo>
                      <a:pt x="281" y="282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82720" y="5502240"/>
                <a:ext cx="594000" cy="446040"/>
              </a:xfrm>
              <a:custGeom>
                <a:avLst/>
                <a:gdLst/>
                <a:ahLst/>
                <a:rect l="l" t="t" r="r" b="b"/>
                <a:pathLst>
                  <a:path w="374" h="281">
                    <a:moveTo>
                      <a:pt x="0" y="73"/>
                    </a:moveTo>
                    <a:lnTo>
                      <a:pt x="93" y="73"/>
                    </a:lnTo>
                    <a:lnTo>
                      <a:pt x="93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4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e7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558960" y="3435120"/>
              <a:ext cx="169920" cy="842760"/>
              <a:chOff x="3558960" y="3435120"/>
              <a:chExt cx="169920" cy="84276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3689280" y="3617640"/>
                <a:ext cx="1440" cy="561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59040" y="3435120"/>
                <a:ext cx="69840" cy="23184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44" y="146"/>
                    </a:moveTo>
                    <a:lnTo>
                      <a:pt x="25" y="0"/>
                    </a:lnTo>
                    <a:lnTo>
                      <a:pt x="0" y="146"/>
                    </a:lnTo>
                    <a:lnTo>
                      <a:pt x="44" y="1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589200" y="3715920"/>
                <a:ext cx="1440" cy="5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58960" y="3535200"/>
                <a:ext cx="69840" cy="230400"/>
              </a:xfrm>
              <a:custGeom>
                <a:avLst/>
                <a:gdLst/>
                <a:ahLst/>
                <a:rect l="l" t="t" r="r" b="b"/>
                <a:pathLst>
                  <a:path w="44" h="145">
                    <a:moveTo>
                      <a:pt x="44" y="145"/>
                    </a:moveTo>
                    <a:lnTo>
                      <a:pt x="25" y="0"/>
                    </a:lnTo>
                    <a:lnTo>
                      <a:pt x="0" y="145"/>
                    </a:lnTo>
                    <a:lnTo>
                      <a:pt x="4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84280" y="2790720"/>
              <a:ext cx="546120" cy="214200"/>
              <a:chOff x="4184280" y="2790720"/>
              <a:chExt cx="546120" cy="214200"/>
            </a:xfrm>
          </p:grpSpPr>
          <p:sp>
            <p:nvSpPr>
              <p:cNvPr id="261" name=""/>
              <p:cNvSpPr/>
              <p:nvPr/>
            </p:nvSpPr>
            <p:spPr>
              <a:xfrm>
                <a:off x="4284360" y="2840040"/>
                <a:ext cx="33660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01880" y="279072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81" h="73">
                    <a:moveTo>
                      <a:pt x="0" y="73"/>
                    </a:moveTo>
                    <a:lnTo>
                      <a:pt x="81" y="31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84280" y="2940120"/>
                <a:ext cx="33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01800" y="2890800"/>
                <a:ext cx="128520" cy="114120"/>
              </a:xfrm>
              <a:custGeom>
                <a:avLst/>
                <a:gdLst/>
                <a:ahLst/>
                <a:rect l="l" t="t" r="r" b="b"/>
                <a:pathLst>
                  <a:path w="81" h="72">
                    <a:moveTo>
                      <a:pt x="0" y="72"/>
                    </a:moveTo>
                    <a:lnTo>
                      <a:pt x="81" y="31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493960" y="3435120"/>
              <a:ext cx="168480" cy="860760"/>
              <a:chOff x="5493960" y="3435120"/>
              <a:chExt cx="168480" cy="860760"/>
            </a:xfrm>
          </p:grpSpPr>
          <p:sp>
            <p:nvSpPr>
              <p:cNvPr id="266" name=""/>
              <p:cNvSpPr/>
              <p:nvPr/>
            </p:nvSpPr>
            <p:spPr>
              <a:xfrm>
                <a:off x="5622840" y="3435120"/>
                <a:ext cx="1440" cy="562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92600" y="3963960"/>
                <a:ext cx="69840" cy="23184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0" y="0"/>
                    </a:moveTo>
                    <a:lnTo>
                      <a:pt x="19" y="146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24200" y="3535200"/>
                <a:ext cx="1800" cy="5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93960" y="4064040"/>
                <a:ext cx="69840" cy="23184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0" y="0"/>
                    </a:moveTo>
                    <a:lnTo>
                      <a:pt x="19" y="146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333680" y="4724280"/>
              <a:ext cx="544320" cy="216000"/>
              <a:chOff x="4333680" y="4724280"/>
              <a:chExt cx="544320" cy="21600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4541760" y="4775040"/>
                <a:ext cx="3362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31960" y="4724280"/>
                <a:ext cx="139680" cy="11592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8" y="0"/>
                    </a:moveTo>
                    <a:lnTo>
                      <a:pt x="0" y="42"/>
                    </a:lnTo>
                    <a:lnTo>
                      <a:pt x="88" y="73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442760" y="4873680"/>
                <a:ext cx="33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33680" y="4824360"/>
                <a:ext cx="138240" cy="11592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0"/>
                    </a:moveTo>
                    <a:lnTo>
                      <a:pt x="0" y="42"/>
                    </a:lnTo>
                    <a:lnTo>
                      <a:pt x="87" y="7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82560" y="1123920"/>
              <a:ext cx="8191440" cy="556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56000" y="620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Análisis de causa-efecto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92360" y="1341360"/>
            <a:ext cx="5543640" cy="86364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ambio quiere decir pasar de un estado a o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549360"/>
            <a:ext cx="259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2349360"/>
            <a:ext cx="5543640" cy="93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ambio significa transformación, perturbació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interrupción y rup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3429000"/>
            <a:ext cx="5543640" cy="1295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El cambio está en todas partes: en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organizaciones, las ciudades, los háb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e las personas, los productos y los servici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el tiempo y el clima, en el día a d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950080"/>
            <a:ext cx="5543640" cy="72072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Todo cambio implica algo dif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869000"/>
            <a:ext cx="5543640" cy="934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ompe el estado de equilibrio y lo sustitu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r un nuevo estado de c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58920" y="476280"/>
            <a:ext cx="662472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Elecciones en torno a la implement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5280" y="1773360"/>
            <a:ext cx="5257800" cy="792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Selección del foc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2781360"/>
            <a:ext cx="5257800" cy="7189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3645000"/>
            <a:ext cx="5257800" cy="7189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35280" y="4581360"/>
            <a:ext cx="5257800" cy="792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Tasa o 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58920" y="476280"/>
            <a:ext cx="6624720" cy="100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Evaluación de los resultados d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843280" y="4292640"/>
            <a:ext cx="3023640" cy="1425240"/>
            <a:chOff x="2843280" y="4292640"/>
            <a:chExt cx="3023640" cy="1425240"/>
          </a:xfrm>
        </p:grpSpPr>
        <p:sp>
          <p:nvSpPr>
            <p:cNvPr id="284" name=""/>
            <p:cNvSpPr/>
            <p:nvPr/>
          </p:nvSpPr>
          <p:spPr>
            <a:xfrm>
              <a:off x="2843280" y="4292640"/>
              <a:ext cx="3023640" cy="142524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66dfc1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03000" y="4741200"/>
              <a:ext cx="23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</a:rPr>
                <a:t>Retroalimen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11280" y="2421000"/>
            <a:ext cx="5003640" cy="1320840"/>
            <a:chOff x="611280" y="2421000"/>
            <a:chExt cx="5003640" cy="1320840"/>
          </a:xfrm>
        </p:grpSpPr>
        <p:grpSp>
          <p:nvGrpSpPr>
            <p:cNvPr id="287" name=""/>
            <p:cNvGrpSpPr/>
            <p:nvPr/>
          </p:nvGrpSpPr>
          <p:grpSpPr>
            <a:xfrm>
              <a:off x="611280" y="2421000"/>
              <a:ext cx="2692080" cy="1320840"/>
              <a:chOff x="611280" y="2421000"/>
              <a:chExt cx="2692080" cy="1320840"/>
            </a:xfrm>
          </p:grpSpPr>
          <p:sp>
            <p:nvSpPr>
              <p:cNvPr id="288" name=""/>
              <p:cNvSpPr/>
              <p:nvPr/>
            </p:nvSpPr>
            <p:spPr>
              <a:xfrm>
                <a:off x="611280" y="2421000"/>
                <a:ext cx="2692080" cy="13208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7ee4cb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19760" y="2838600"/>
                <a:ext cx="14986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Verdana"/>
                  </a:rPr>
                  <a:t>Recolecta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Verdana"/>
                  </a:rPr>
                  <a:t>da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481200" y="308160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724360" y="2349360"/>
            <a:ext cx="2808000" cy="2590920"/>
            <a:chOff x="5724360" y="2349360"/>
            <a:chExt cx="2808000" cy="2590920"/>
          </a:xfrm>
        </p:grpSpPr>
        <p:sp>
          <p:nvSpPr>
            <p:cNvPr id="292" name=""/>
            <p:cNvSpPr/>
            <p:nvPr/>
          </p:nvSpPr>
          <p:spPr>
            <a:xfrm>
              <a:off x="5724360" y="2349360"/>
              <a:ext cx="2808000" cy="141876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66dfc1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015240" y="2877840"/>
              <a:ext cx="1843200" cy="2062440"/>
              <a:chOff x="6015240" y="2877840"/>
              <a:chExt cx="1843200" cy="2062440"/>
            </a:xfrm>
          </p:grpSpPr>
          <p:sp>
            <p:nvSpPr>
              <p:cNvPr id="294" name=""/>
              <p:cNvSpPr/>
              <p:nvPr/>
            </p:nvSpPr>
            <p:spPr>
              <a:xfrm>
                <a:off x="6359760" y="2877840"/>
                <a:ext cx="14986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Verdana"/>
                  </a:rPr>
                  <a:t>Compara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Verdana"/>
                  </a:rPr>
                  <a:t>Result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015240" y="3958560"/>
                <a:ext cx="1112400" cy="981720"/>
                <a:chOff x="6015240" y="3958560"/>
                <a:chExt cx="1112400" cy="981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127640" y="3958560"/>
                  <a:ext cx="0" cy="9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6015240" y="4940280"/>
                  <a:ext cx="1112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Bar dir="horz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1908000" y="1916280"/>
            <a:ext cx="5184720" cy="3384000"/>
            <a:chOff x="1908000" y="1916280"/>
            <a:chExt cx="5184720" cy="3384000"/>
          </a:xfrm>
        </p:grpSpPr>
        <p:sp>
          <p:nvSpPr>
            <p:cNvPr id="299" name=""/>
            <p:cNvSpPr/>
            <p:nvPr/>
          </p:nvSpPr>
          <p:spPr>
            <a:xfrm>
              <a:off x="1908000" y="1916280"/>
              <a:ext cx="5184720" cy="3384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75e2c7"/>
                </a:gs>
                <a:gs pos="100000">
                  <a:srgbClr val="00cc99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74320" y="1982520"/>
              <a:ext cx="4922640" cy="30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                                  </a:t>
              </a: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Cr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  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Re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Pro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V="1">
            <a:off x="-2774520" y="-1037160"/>
            <a:ext cx="9651600" cy="61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907920"/>
            <a:ext cx="48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sto d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7236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Ta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9162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5373720"/>
            <a:ext cx="35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Verdana"/>
              </a:rPr>
              <a:t>Momento en que comienza el camb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43280" y="5877000"/>
            <a:ext cx="35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1" lang="es-MX" sz="1300" spc="-1" strike="noStrike">
                <a:solidFill>
                  <a:srgbClr val="000099"/>
                </a:solidFill>
                <a:latin typeface="Verdana"/>
              </a:rPr>
              <a:t>Seriedad del problema e inmediate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5805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19280" y="5805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5373720"/>
            <a:ext cx="177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mpr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501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835280" y="765000"/>
            <a:ext cx="4608360" cy="1008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conocer y evalu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necesida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205000"/>
            <a:ext cx="5562720" cy="1008000"/>
          </a:xfrm>
          <a:prstGeom prst="downArrowCallout">
            <a:avLst>
              <a:gd name="adj1" fmla="val 48803"/>
              <a:gd name="adj2" fmla="val 34644"/>
              <a:gd name="adj3" fmla="val 1687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nocimiento pro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3500280"/>
            <a:ext cx="5562720" cy="992520"/>
          </a:xfrm>
          <a:prstGeom prst="downArrowCallout">
            <a:avLst>
              <a:gd name="adj1" fmla="val 49564"/>
              <a:gd name="adj2" fmla="val 35185"/>
              <a:gd name="adj3" fmla="val 16875"/>
              <a:gd name="adj4" fmla="val 6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nocimiento re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3640" y="4653000"/>
            <a:ext cx="460872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835280" y="2060640"/>
            <a:ext cx="5328720" cy="2736360"/>
            <a:chOff x="1835280" y="2060640"/>
            <a:chExt cx="5328720" cy="2736360"/>
          </a:xfrm>
        </p:grpSpPr>
        <p:sp>
          <p:nvSpPr>
            <p:cNvPr id="53" name=""/>
            <p:cNvSpPr/>
            <p:nvPr/>
          </p:nvSpPr>
          <p:spPr>
            <a:xfrm>
              <a:off x="1835280" y="2060640"/>
              <a:ext cx="5328720" cy="27363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75e2c7"/>
                </a:gs>
                <a:gs pos="100000">
                  <a:srgbClr val="00cc99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06280" y="2113920"/>
              <a:ext cx="5059440" cy="22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tamente impredecibl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edecibl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mpredecibl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763640" y="83664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edictabilidad d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11280" y="0"/>
            <a:ext cx="443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27280" y="4724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Ferrar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208480" cy="3906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900760" y="333360"/>
            <a:ext cx="289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43000" y="380880"/>
            <a:ext cx="8489880" cy="4267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68360" y="4724280"/>
            <a:ext cx="84470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"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La vida es aquello que te va sucediendo mientras te empeñas en hacer otros</a:t>
            </a:r>
            <a:r>
              <a:rPr b="1" lang="es-MX" sz="30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plane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              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OHN LEN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55640" y="90792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nrique Benjamín Frankli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Por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www.mhhe.com/negocios/franklin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Correo electrón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benjamin_franklin@oficinadecorre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efranklin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enrique_benjami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836640"/>
            <a:ext cx="547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locidad d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37000"/>
            <a:ext cx="3095640" cy="118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de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mento 8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mantiene igual 1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3800">
            <a:off x="3562200" y="2490480"/>
            <a:ext cx="1944720" cy="1584360"/>
          </a:xfrm>
          <a:custGeom>
            <a:avLst/>
            <a:gdLst>
              <a:gd name="textAreaLeft" fmla="*/ 303840 w 1944720"/>
              <a:gd name="textAreaRight" fmla="*/ 1663560 w 1944720"/>
              <a:gd name="textAreaTop" fmla="*/ 396720 h 1584360"/>
              <a:gd name="textAreaBottom" fmla="*/ 1187640 h 158436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ahoma"/>
              </a:rPr>
              <a:t>Habil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2205000"/>
            <a:ext cx="3240000" cy="188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de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ara anticipar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ara responder con rapidez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62064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tes           Desp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7648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8843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238140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68360" y="3505320"/>
            <a:ext cx="21891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5:57:27Z</dcterms:created>
  <dc:creator>Enrique Benjamín Franklin F.</dc:creator>
  <dc:description/>
  <dc:language>en-US</dc:language>
  <cp:lastModifiedBy>Computadora Personal</cp:lastModifiedBy>
  <dcterms:modified xsi:type="dcterms:W3CDTF">2006-09-15T16:45:01Z</dcterms:modified>
  <cp:revision>150</cp:revision>
  <dc:subject/>
  <dc:title>Auditoría administrativa</dc:title>
</cp:coreProperties>
</file>