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6.png" ContentType="image/png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7C2-42A8-4D52-88E5-504D4F85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DF1-0C5B-4E04-8744-C0E76940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846-C1C2-426C-AEA9-674691FB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F14-2A2A-4C1C-8FC0-B52B3896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07F-D12B-4508-8778-7A42409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7A3-9942-4522-A9A0-B1BBDD45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405-FE62-4DD4-AEC0-AFECBC81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E52-60D7-4149-9E12-AFFC2929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640-24BC-443B-A584-52B950DF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01F-F6A2-4926-A48C-5F889E9D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0C9-09D7-4CE4-BD49-EC02117D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70B-E53F-44BA-BFA2-90125C19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1D14ED-499C-406E-94AB-CD6064AB7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68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00000" y="1700280"/>
            <a:ext cx="7272360" cy="37782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Objetivo y campo de ap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Normas de refe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érminos y definiciones de la norma ISO 9000: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ntecedentes de las normas de cali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ambios registrados en las normas entre los años de 1994 y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Orientación al servicio: normas ISO 9001:2000  Sistemas d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stión de la calidad: requisitos e ISO 9004:2000 Sistemas de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stión de la calidad: directrices para la mejora del desemp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Norma ISO 9004:2000. Principios de gestión de la 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SO 19011:2000  Sistemas de gestión de la calidad y la gest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mbiental: directrices sobre la auditoría de sistemas de gestión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de la calidad y ambientales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érminos y definiciones de la norma ISO 19011: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Directrices para la autoevalu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4897440" cy="792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rmas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971640" y="1557360"/>
            <a:ext cx="6933600" cy="4536720"/>
            <a:chOff x="971640" y="1557360"/>
            <a:chExt cx="6933600" cy="4536720"/>
          </a:xfrm>
        </p:grpSpPr>
        <p:sp>
          <p:nvSpPr>
            <p:cNvPr id="68" name=""/>
            <p:cNvSpPr/>
            <p:nvPr/>
          </p:nvSpPr>
          <p:spPr>
            <a:xfrm>
              <a:off x="971640" y="1557360"/>
              <a:ext cx="6933600" cy="45367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75e2c7"/>
                </a:gs>
                <a:gs pos="100000">
                  <a:srgbClr val="00cc99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94120" y="1643400"/>
              <a:ext cx="6582960" cy="42904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996600"/>
                  </a:solidFill>
                  <a:latin typeface="Verdana"/>
                </a:rPr>
                <a:t>Organización ver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Con una sola se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Con unidades desconcentra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Con unidades descentraliza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Con unidades desconcentradas y descentraliza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Con unidades glob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Con unidades desconcentradas, descentralizadas y glob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996600"/>
                  </a:solidFill>
                  <a:latin typeface="Verdana"/>
                </a:rPr>
                <a:t>Organización horizo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Unidades al mismo ni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Equipos de traba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n red de tecnologí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n red  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996600"/>
                  </a:solidFill>
                  <a:latin typeface="Verdana"/>
                </a:rPr>
                <a:t>Organización vertical/horizo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Función/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Estraté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996600"/>
                  </a:solidFill>
                  <a:latin typeface="Verdana"/>
                </a:rPr>
                <a:t>Organización virt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Unidades en el lugar de ori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3006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Unidades a nivel 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971640" y="476280"/>
            <a:ext cx="6913440" cy="520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LTERNATIVAS DE ESTRUCTURA PARA CAPITALIZAR HABILIDADES DISTINTIVAS, VENTAJA COMPETITIVA Y ENFOQUE ESTRATÉ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120000" cy="4103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5832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uditoría administrativa en empresas con una red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105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5832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uditoría administrativa en empresas que operan en base a función/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121440" cy="3960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8920" y="692280"/>
            <a:ext cx="58323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uditoría administrativa en empresas que operan basadas en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120000" cy="3960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8920" y="692280"/>
            <a:ext cx="58323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uditoría administrativa en empresas que operan bajo una organización estraté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191280" cy="3960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18920" y="691920"/>
            <a:ext cx="58323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uditoría administrativa en una empresa con un modelo de organización virtual con unidades a nivel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Gestión del camb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2924280"/>
            <a:ext cx="5562360" cy="1008000"/>
          </a:xfrm>
          <a:prstGeom prst="downArrowCallout">
            <a:avLst>
              <a:gd name="adj1" fmla="val 48800"/>
              <a:gd name="adj2" fmla="val 34642"/>
              <a:gd name="adj3" fmla="val 16875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conocimiento pro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4076640"/>
            <a:ext cx="5562360" cy="1135080"/>
          </a:xfrm>
          <a:prstGeom prst="downArrowCallout">
            <a:avLst>
              <a:gd name="adj1" fmla="val 43336"/>
              <a:gd name="adj2" fmla="val 30764"/>
              <a:gd name="adj3" fmla="val 16875"/>
              <a:gd name="adj4" fmla="val 6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conocimiento re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24000" y="5229360"/>
            <a:ext cx="4680000" cy="9349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907920"/>
            <a:ext cx="5562360" cy="1873440"/>
          </a:xfrm>
          <a:prstGeom prst="downArrowCallout">
            <a:avLst>
              <a:gd name="adj1" fmla="val 26257"/>
              <a:gd name="adj2" fmla="val 18639"/>
              <a:gd name="adj3" fmla="val 16875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conocer y evalu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necesidad de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59280" y="1882800"/>
            <a:ext cx="3025440" cy="9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erzas impuls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3390840"/>
            <a:ext cx="3025440" cy="90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erzas estabilizad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4830840"/>
            <a:ext cx="3025440" cy="90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erzas restric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2870280"/>
            <a:ext cx="180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2870280"/>
            <a:ext cx="1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2870280"/>
            <a:ext cx="180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882800"/>
            <a:ext cx="1873080" cy="9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916280"/>
            <a:ext cx="1944720" cy="38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evale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708360" y="4311360"/>
            <a:ext cx="180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23479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4311360"/>
            <a:ext cx="1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76720" y="4311360"/>
            <a:ext cx="180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30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3390840"/>
            <a:ext cx="1873080" cy="90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4830840"/>
            <a:ext cx="1800000" cy="90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234792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3789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5300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2349360"/>
            <a:ext cx="180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484000" y="378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620640"/>
            <a:ext cx="576108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Campo dinámico de fuerzas del cambio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55640" y="981000"/>
            <a:ext cx="763272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Enrique Benjamín Frankli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El gran reto acerca de crear el futuro no es predecirlo. La meta es tratar de imaginar un futuro que sea verosímil: el futuro  que  podemos  crear.   Para  ese  efecto, las nuevas herramientas de estrategia tienen que echar raíces porqu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no se puede crear el futuro utilizando las viejas herramientas de estrategi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El esfuerzo que realiza para crear un punto de vista sobre el futuro y una estrategia para manejar el cambio, representa la   capacidad    de  desarrollar  un  sentido  profundo  de discontinuidades para crear una jerarquía de imaginación”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Gary Ham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329080" cy="5616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360" y="333360"/>
            <a:ext cx="360036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 del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48360" cy="511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40000" y="476280"/>
            <a:ext cx="4464000" cy="720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Gestión del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32360" cy="432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765000"/>
            <a:ext cx="4248000" cy="719280"/>
          </a:xfrm>
          <a:prstGeom prst="rect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olígono de tendencia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42920" y="2781360"/>
            <a:ext cx="691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 Black"/>
              </a:rPr>
              <a:t>INVENTARIO DE ASPECTOS RELEVANT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19280" y="1557360"/>
            <a:ext cx="5904000" cy="405036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capítu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Objetivo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</a:rPr>
              <a:t>Resume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</a:rPr>
              <a:t>Preguntas para deb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</a:rPr>
              <a:t>Casos para análisis extraídos de auditorías administrativas implementadas en instituciones públicas y privad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</a:rPr>
              <a:t>Apéndices con aplicaciones cla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</a:rPr>
              <a:t>Un caso integrador basado en la presentación completa de  una auditoría administrativa a una empresa del sector de la construc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476280"/>
            <a:ext cx="316872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De forma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0000" y="1197000"/>
            <a:ext cx="7272360" cy="50000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tegración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103 hechos y aportaciones que a lo largo de la historia han dado rezón de ser a la auditoría administrativ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Todas las vertientes de estrategia que inciden en el desempeño de una organ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Un marco ético y de responsabilidad social y profesional profun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53 áreas de aplicación (componentes fundamental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Nueva visión para el diagnóstico organizacional y el análisis multinivel de variable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250 enfoques organizacionales y cuantitativos para orientar el examen de una organ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700 indicadores financieros y de gest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3400 preguntas para evaluar el comportamiento de los componentes fundamenta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13 herramientas operativas, de diagnóstico y evalu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130 escalas de medi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Sistemas de gestión de la calidad en materia de mejora del desempeño, auditoría y autoevaluación (Normas ISO 9000: 200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15 versiones de estructura organiz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Todas las normas, programas, guías o lineamientos clave para auditar en el sector públ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Un nuevo modelo de gestión del camb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333360"/>
            <a:ext cx="316872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De fondo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692280"/>
            <a:ext cx="7416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Verdana"/>
              </a:rPr>
              <a:t>Enrique Benjamín Franklin 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6600"/>
                </a:solidFill>
                <a:latin typeface="Verdana"/>
              </a:rPr>
              <a:t>Port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www. pearsoneducacion.net/frank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6600"/>
                </a:solidFill>
                <a:latin typeface="Verdana"/>
              </a:rPr>
              <a:t>Correo electrón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bfranklin@iberoamericanaescritor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benjamin_franklin@oficinadecorre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efranklin@prodigy.net.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66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2000" y="981000"/>
            <a:ext cx="6480000" cy="510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PÍTULO 1     </a:t>
            </a:r>
            <a:r>
              <a:rPr b="1" lang="es-ES" sz="1300" spc="-1" strike="noStrike">
                <a:solidFill>
                  <a:srgbClr val="3333cc"/>
                </a:solidFill>
                <a:latin typeface="Verdana"/>
              </a:rPr>
              <a:t>MARCO CONCEPT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PÍTULO 2     </a:t>
            </a:r>
            <a:r>
              <a:rPr b="1" lang="es-ES" sz="1300" spc="-1" strike="noStrike">
                <a:solidFill>
                  <a:srgbClr val="3333cc"/>
                </a:solidFill>
                <a:latin typeface="Verdana"/>
              </a:rPr>
              <a:t>EL AUDI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PÍTULO 3     </a:t>
            </a:r>
            <a:r>
              <a:rPr b="1" lang="es-ES" sz="1300" spc="-1" strike="noStrike">
                <a:solidFill>
                  <a:srgbClr val="3333cc"/>
                </a:solidFill>
                <a:latin typeface="Verdana"/>
              </a:rPr>
              <a:t>METODOLOGÍA DE L AUDITORÍA ADMINISTRATIV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PÍTULO 4     </a:t>
            </a:r>
            <a:r>
              <a:rPr b="1" lang="es-ES" sz="1300" spc="-1" strike="noStrike">
                <a:solidFill>
                  <a:srgbClr val="3333cc"/>
                </a:solidFill>
                <a:latin typeface="Verdana"/>
              </a:rPr>
              <a:t>INDIC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PÍTULO 5     </a:t>
            </a:r>
            <a:r>
              <a:rPr b="1" lang="es-ES" sz="1300" spc="-1" strike="noStrike">
                <a:solidFill>
                  <a:srgbClr val="3333cc"/>
                </a:solidFill>
                <a:latin typeface="Verdana"/>
              </a:rPr>
              <a:t>CUESTIONAR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PÍTULO 6     </a:t>
            </a:r>
            <a:r>
              <a:rPr b="1" lang="es-ES" sz="1300" spc="-1" strike="noStrike">
                <a:solidFill>
                  <a:srgbClr val="3333cc"/>
                </a:solidFill>
                <a:latin typeface="Verdana"/>
              </a:rPr>
              <a:t>CÉDULAS Y GRÁF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PÍTULO 7     </a:t>
            </a:r>
            <a:r>
              <a:rPr b="1" lang="es-ES" sz="1300" spc="-1" strike="noStrike">
                <a:solidFill>
                  <a:srgbClr val="3333cc"/>
                </a:solidFill>
                <a:latin typeface="Verdana"/>
              </a:rPr>
              <a:t>ESCALAS DE MEDI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PÍTULO 8     </a:t>
            </a:r>
            <a:r>
              <a:rPr b="1" lang="es-ES" sz="1300" spc="-1" strike="noStrike">
                <a:solidFill>
                  <a:srgbClr val="3333cc"/>
                </a:solidFill>
                <a:latin typeface="Verdana"/>
              </a:rPr>
              <a:t>NORMAS DE CA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PÍTULO 9     </a:t>
            </a:r>
            <a:r>
              <a:rPr b="1" lang="es-ES" sz="1300" spc="-1" strike="noStrike">
                <a:solidFill>
                  <a:srgbClr val="3333cc"/>
                </a:solidFill>
                <a:latin typeface="Verdana"/>
              </a:rPr>
              <a:t>LA AUDITORIA EN EL SECTOR PRIV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PÍTULO 10   </a:t>
            </a:r>
            <a:r>
              <a:rPr b="1" lang="es-ES" sz="1300" spc="-1" strike="noStrike">
                <a:solidFill>
                  <a:srgbClr val="3333cc"/>
                </a:solidFill>
                <a:latin typeface="Verdana"/>
              </a:rPr>
              <a:t>LA AUDITORIA EN EL SECTOR PÚBL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PÍTULO 11   </a:t>
            </a:r>
            <a:r>
              <a:rPr b="1" lang="es-ES" sz="1300" spc="-1" strike="noStrike">
                <a:solidFill>
                  <a:srgbClr val="3333cc"/>
                </a:solidFill>
                <a:latin typeface="Verdana"/>
              </a:rPr>
              <a:t>AUDITORIA INTELIGEN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4187880"/>
            <a:ext cx="38102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30360"/>
            <a:ext cx="822960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Una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  <a:ea typeface="Arial"/>
              </a:rPr>
              <a:t> auditoría administrativa es la revisión analítica total o parcial de una organización con el propósito de conocer su nivel de desempeño y perfilar oportunidades de mejora para innovar valor y crear una ventaja competitiva suste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24080" y="4187880"/>
            <a:ext cx="38102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c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032000" cy="36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Naturaleza juríd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Criterios de funcionami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Estilo de administr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Verdana"/>
              </a:rPr>
              <a:t>Enfoque estratég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Proceso administrativ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Verdana"/>
              </a:rPr>
              <a:t>Giro industr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ector de activid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Ámbito de operació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Verdana"/>
              </a:rPr>
              <a:t>Tamaño de la empres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Número de emple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27280" y="2133720"/>
            <a:ext cx="4273560" cy="36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Verdana"/>
              </a:rPr>
              <a:t>Relaciones de coordin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Desarrollo tecnológic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istemas de comunicación e inform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Nivel de desempeñ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Trato a clientes       (internos y externo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Entor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Productos y/o servici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istemas de calid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4508640"/>
            <a:ext cx="2305080" cy="1769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RGAN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structura organiz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visión y distribución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e fun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ultura organiz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ursos huma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mbio organiz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studios administra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strumentos técn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1984680"/>
            <a:ext cx="1873440" cy="23313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LANE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i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i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strategias / tác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cedimien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nfo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ive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orizo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2229480"/>
            <a:ext cx="2881440" cy="324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dquisi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lmacenes e inv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sesoría exter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sesoría inter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ordin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stribución del espa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xportacion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lobaliz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mportacion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formátic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vestigación y desarrol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er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veedor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ursos financieros y conta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ervicio a clien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ervicios gene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2094120"/>
            <a:ext cx="2736720" cy="18745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RE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ideraz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tiv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rupos y equipos 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ejo del estrés, el conflicto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a cri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oma de decis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reatividad e innov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530600"/>
            <a:ext cx="2087640" cy="15699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aturale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ive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Áreas de apl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errami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1125360"/>
            <a:ext cx="29527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 ESPECÍ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125360"/>
            <a:ext cx="4753080" cy="6480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O ADMINIST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4535640" cy="576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9a0a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Áreas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79640" y="1341360"/>
            <a:ext cx="5040360" cy="475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Verdana"/>
              </a:rPr>
              <a:t>Selección estraté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strategia internacional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strategia multinaciona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strategia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strategia tras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Verdana"/>
              </a:rPr>
              <a:t>Modo de ingr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Exportación  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Licencia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ranquici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Alianza estraté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Subsidiaria pr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Fu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Adquis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Subcontratación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Verdana"/>
              </a:rPr>
              <a:t>Estrategia a nivel neg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Liderazgo en co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Difere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Concent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Diver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Integración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Integración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Enfoque estraté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1268280"/>
            <a:ext cx="7162920" cy="492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Verdana"/>
              </a:rPr>
              <a:t>Génesis de la organ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reación de la organ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mbios en la composición juríd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Traducción del objeto en estrategi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Manejo de la delegación de facultad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Esquema de operación (procesos/funcion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Estilo de administr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Modificaciones en la estructura organiz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Nivel de desarrollo tecnológ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</a:rPr>
              <a:t>Forma de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Desempeño regist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Logros alcanzad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Expectativas no cumplid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Proceso de toma de decisio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</a:rPr>
              <a:t>Posición competi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Naturaleza, dimensión, sector y giro industrial de la organ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etencias centra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lientes, proveedores y competidores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5041800" cy="64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Diagnóstico prelim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7280" y="765000"/>
            <a:ext cx="6624720" cy="578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Fisonomía de la organización de acuerdo con su situación actual y su trayectoria histó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Mecánica para generar bienes, servicios, capital y cono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Esfera de 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Posición en el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iclo de vida de la organ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Información op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Gestión de funciones, procesos y proyect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oordinación de las ac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Administración de la tecnología de la inform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Análisis de la interacción  planeación, organización, dirección y contr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Desempe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Manejo de indicadores de gest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Resultados alcanz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Margen de efectivida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Estrategia compet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Propósito estratég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Enfoque estratég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Procesos estratég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Habilidades distin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Lideraz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ultura organizacio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3006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Trabajo en 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alidad de vida de la organ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Perspec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Estruc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Oportunidades de nego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Administración del camb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Potencial de innov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ontrol estratég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5832360" cy="43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100" spc="-1" strike="noStrike">
                <a:solidFill>
                  <a:srgbClr val="003399"/>
                </a:solidFill>
                <a:latin typeface="Verdana"/>
              </a:rPr>
              <a:t>Diagnóstico administrativ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15:57:27Z</dcterms:created>
  <dc:creator>Enrique Benjamín Franklin F.</dc:creator>
  <dc:description/>
  <dc:language>en-US</dc:language>
  <cp:lastModifiedBy>Computadora Personal</cp:lastModifiedBy>
  <dcterms:modified xsi:type="dcterms:W3CDTF">2006-07-11T04:29:55Z</dcterms:modified>
  <cp:revision>126</cp:revision>
  <dc:subject/>
  <dc:title>Auditoría administrativa</dc:title>
</cp:coreProperties>
</file>